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013825" cy="6858000"/>
  <p:notesSz cx="98567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A6AE-1755-4234-8980-C3DF127C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86706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2040" y="3986280"/>
            <a:ext cx="86706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7B69-2DA7-40CC-855E-168FEB602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204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516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C4FF-391C-4A0A-B46D-887325834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53880" y="129852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5720" y="129852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2040" y="398628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53880" y="398628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5720" y="398628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C823-E458-426F-B9F7-38F2292CD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2040" y="1298520"/>
            <a:ext cx="8670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8670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4840" y="306360"/>
            <a:ext cx="703728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204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2040" y="1298520"/>
            <a:ext cx="8670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61E0-29CF-4A19-8E32-1EB9648F6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516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2040" y="3986280"/>
            <a:ext cx="86706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86706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2040" y="3986280"/>
            <a:ext cx="86706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204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516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3880" y="129852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5720" y="129852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2040" y="398628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3880" y="398628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5720" y="3986280"/>
            <a:ext cx="27918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8670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DED8-832B-4188-A39A-C259B6F94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7258-0061-49F5-B067-991342DAB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2686-1638-4E1A-B653-6CA2F2C03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4840" y="306360"/>
            <a:ext cx="703728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F0D4-DCED-4DBC-A6CE-9CFEF64C2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204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9A14-017F-4716-A389-AD952BBF3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5160" y="398628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8EC6-75DE-4E52-85C0-E2139FA5D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04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5160" y="1298520"/>
            <a:ext cx="423108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040" y="3986280"/>
            <a:ext cx="867060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3758-791D-48A2-A631-BC01D1549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39" descr=""/>
          <p:cNvPicPr/>
          <p:nvPr/>
        </p:nvPicPr>
        <p:blipFill>
          <a:blip r:embed="rId2"/>
          <a:stretch/>
        </p:blipFill>
        <p:spPr>
          <a:xfrm>
            <a:off x="-10152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857640" y="6644880"/>
            <a:ext cx="18795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72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95BC-47C6-435F-8E8A-84D7201B6861}" type="slidenum">
              <a:rPr b="0" lang="en-GB" sz="1000" spc="-1" strike="noStrike">
                <a:solidFill>
                  <a:srgbClr val="0072c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22040" y="1298520"/>
            <a:ext cx="8670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1360" indent="-270000"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74600" indent="-183960">
              <a:spcBef>
                <a:spcPts val="1500"/>
              </a:spcBef>
              <a:buClr>
                <a:srgbClr val="0072c6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436760" indent="-182520">
              <a:spcBef>
                <a:spcPts val="1500"/>
              </a:spcBef>
              <a:buClr>
                <a:srgbClr val="0072c6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00360" indent="-184320">
              <a:spcBef>
                <a:spcPts val="1500"/>
              </a:spcBef>
              <a:buClr>
                <a:srgbClr val="0072c6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00360" indent="-18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00360" indent="-18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22400" y="542880"/>
            <a:ext cx="8670600" cy="6289560"/>
            <a:chOff x="122400" y="542880"/>
            <a:chExt cx="8670600" cy="6289560"/>
          </a:xfrm>
        </p:grpSpPr>
        <p:sp>
          <p:nvSpPr>
            <p:cNvPr id="5" name="McK Measure" hidden="1"/>
            <p:cNvSpPr/>
            <p:nvPr/>
          </p:nvSpPr>
          <p:spPr>
            <a:xfrm>
              <a:off x="122400" y="542880"/>
              <a:ext cx="867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McK Footnote" hidden="1"/>
            <p:cNvSpPr/>
            <p:nvPr/>
          </p:nvSpPr>
          <p:spPr>
            <a:xfrm>
              <a:off x="125280" y="6428880"/>
              <a:ext cx="821700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1040" indent="-581040">
                <a:tabLst>
                  <a:tab algn="l" pos="0"/>
                  <a:tab algn="r" pos="53964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81040" indent="-581040">
                <a:spcBef>
                  <a:spcPts val="300"/>
                </a:spcBef>
                <a:tabLst>
                  <a:tab algn="l" pos="0"/>
                  <a:tab algn="r" pos="53964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Working Draft" hidden="1"/>
          <p:cNvSpPr/>
          <p:nvPr/>
        </p:nvSpPr>
        <p:spPr>
          <a:xfrm rot="5400000">
            <a:off x="8084880" y="3931560"/>
            <a:ext cx="1718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Working Draft - Last Modified 29/06/2007 00:08:1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g num"/>
          <p:cNvSpPr/>
          <p:nvPr/>
        </p:nvSpPr>
        <p:spPr>
          <a:xfrm>
            <a:off x="6912000" y="6645240"/>
            <a:ext cx="187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B23A876-5625-4038-8168-BB9E550F4470}" type="slidenum">
              <a:rPr b="0" lang="en-GB" sz="1200" spc="-1" strike="noStrike">
                <a:solidFill>
                  <a:srgbClr val="0072c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2040" y="1298520"/>
            <a:ext cx="8670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1360" indent="-270000"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74600" indent="-183960">
              <a:spcBef>
                <a:spcPts val="1500"/>
              </a:spcBef>
              <a:buClr>
                <a:srgbClr val="0072c6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436760" indent="-182520">
              <a:spcBef>
                <a:spcPts val="1500"/>
              </a:spcBef>
              <a:buClr>
                <a:srgbClr val="0072c6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00360" indent="-184320">
              <a:spcBef>
                <a:spcPts val="1500"/>
              </a:spcBef>
              <a:buClr>
                <a:srgbClr val="0072c6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00360" indent="-18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00360" indent="-18432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4320" y="1606320"/>
            <a:ext cx="780228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6000" spc="-1" strike="noStrike">
                <a:solidFill>
                  <a:srgbClr val="0072c6"/>
                </a:solidFill>
                <a:latin typeface="Tahoma"/>
              </a:rPr>
              <a:t>Driver Diagrams</a:t>
            </a:r>
            <a:br>
              <a:rPr sz="6000"/>
            </a:br>
            <a:br>
              <a:rPr sz="2400"/>
            </a:br>
            <a:r>
              <a:rPr b="1" lang="en-GB" sz="2800" spc="-1" strike="noStrike">
                <a:solidFill>
                  <a:srgbClr val="0072c6"/>
                </a:solidFill>
                <a:latin typeface="Tahoma"/>
              </a:rPr>
              <a:t>The Productive Operating Theatre:</a:t>
            </a:r>
            <a:br>
              <a:rPr sz="2800"/>
            </a:br>
            <a:r>
              <a:rPr b="0" i="1" lang="en-GB" sz="2800" spc="-1" strike="noStrike">
                <a:solidFill>
                  <a:srgbClr val="0072c6"/>
                </a:solidFill>
                <a:latin typeface="Tahoma"/>
              </a:rPr>
              <a:t>Building teams for safer care </a:t>
            </a:r>
            <a:r>
              <a:rPr b="0" lang="en-GB" sz="2800" spc="-1" strike="noStrike" baseline="30000">
                <a:solidFill>
                  <a:srgbClr val="0072c6"/>
                </a:solidFill>
                <a:latin typeface="Tahoma"/>
              </a:rPr>
              <a:t>TM</a:t>
            </a:r>
            <a:br>
              <a:rPr sz="2800"/>
            </a:b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6858000" y="6645240"/>
            <a:ext cx="187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684EC52-DFD9-42C3-9C9E-88DD88AA257A}" type="slidenum">
              <a:rPr b="0" lang="en-GB" sz="1000" spc="-1" strike="noStrike">
                <a:solidFill>
                  <a:srgbClr val="0072c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GB" sz="2800" spc="-1" strike="noStrike">
                <a:solidFill>
                  <a:srgbClr val="0072c6"/>
                </a:solidFill>
                <a:latin typeface="Arial"/>
              </a:rPr>
              <a:t>Safety &amp; Reliability Driver Diagram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57280" y="258300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Defect free surger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514600" y="1882800"/>
            <a:ext cx="271440" cy="2719440"/>
          </a:xfrm>
          <a:custGeom>
            <a:avLst/>
            <a:gdLst>
              <a:gd name="textAreaLeft" fmla="*/ 173520 w 271440"/>
              <a:gd name="textAreaRight" fmla="*/ 271800 w 271440"/>
              <a:gd name="textAreaTop" fmla="*/ 70920 h 2719440"/>
              <a:gd name="textAreaBottom" fmla="*/ 2648520 h 27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987640" y="168444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void mistak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87640" y="305280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void complicatio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987640" y="452592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void delay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576760" y="128592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nduct Team Brief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576760" y="164448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nduct Team Debrief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576760" y="198756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nduct Time Ou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576760" y="2987640"/>
            <a:ext cx="254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Implement SSI bundl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576760" y="3532320"/>
            <a:ext cx="305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Implement VTE bundl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576760" y="428940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Have correct kit to han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576760" y="4591080"/>
            <a:ext cx="2295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nsure staff are adequately traine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576760" y="233208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Produce accurate list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5129280" y="1325520"/>
            <a:ext cx="291960" cy="1204920"/>
          </a:xfrm>
          <a:custGeom>
            <a:avLst/>
            <a:gdLst>
              <a:gd name="textAreaLeft" fmla="*/ 186480 w 291960"/>
              <a:gd name="textAreaRight" fmla="*/ 292320 w 291960"/>
              <a:gd name="textAreaTop" fmla="*/ 31320 h 1204920"/>
              <a:gd name="textAreaBottom" fmla="*/ 1173600 h 12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5130720" y="3119400"/>
            <a:ext cx="292320" cy="620640"/>
          </a:xfrm>
          <a:custGeom>
            <a:avLst/>
            <a:gdLst>
              <a:gd name="textAreaLeft" fmla="*/ 186840 w 292320"/>
              <a:gd name="textAreaRight" fmla="*/ 292680 w 292320"/>
              <a:gd name="textAreaTop" fmla="*/ 15840 h 620640"/>
              <a:gd name="textAreaBottom" fmla="*/ 604800 h 62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5132520" y="4378320"/>
            <a:ext cx="291960" cy="460440"/>
          </a:xfrm>
          <a:custGeom>
            <a:avLst/>
            <a:gdLst>
              <a:gd name="textAreaLeft" fmla="*/ 186480 w 291960"/>
              <a:gd name="textAreaRight" fmla="*/ 292320 w 291960"/>
              <a:gd name="textAreaTop" fmla="*/ 11880 h 460440"/>
              <a:gd name="textAreaBottom" fmla="*/ 448560 h 4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7340760" y="1144440"/>
            <a:ext cx="33156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7705800" y="1589040"/>
            <a:ext cx="33156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2"/>
          <p:cNvSpPr/>
          <p:nvPr/>
        </p:nvSpPr>
        <p:spPr>
          <a:xfrm>
            <a:off x="7242120" y="18637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3"/>
          <p:cNvSpPr/>
          <p:nvPr/>
        </p:nvSpPr>
        <p:spPr>
          <a:xfrm>
            <a:off x="7621560" y="22240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7620120" y="293832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7621560" y="33796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7705800" y="4184640"/>
            <a:ext cx="33156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1071720" y="306216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8120160" y="4184640"/>
            <a:ext cx="33156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3349800" y="194940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3765600" y="195120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4167360" y="195264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2987640" y="34765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3"/>
          <p:cNvSpPr/>
          <p:nvPr/>
        </p:nvSpPr>
        <p:spPr>
          <a:xfrm>
            <a:off x="3403440" y="34783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3805200" y="34797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>
            <a:off x="4221000" y="34815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122400" y="4805280"/>
            <a:ext cx="35589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S0 Overall glitch cou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S1 Adverse surgical ev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 % lists with Team Brief (or # Team Brief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 % lists with Team Debrief (or # Team Debrief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 % lists with Time Out (or # Time Out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4 % lists performed as lis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5 % compliance with SSI bun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6 % compliance with VTE bun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7 % correct kit to h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8 % usable k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3538440" y="4987800"/>
            <a:ext cx="33274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9 Retained obje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0 Wrong site surg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1 Wrong proced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2 Readmiss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3 Number of Unplanned returns to theat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4 Number of S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5 Number of V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4 Compliance with mandatory training &amp; appraisal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7008840" y="540720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7008840" y="59641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7421400" y="5340240"/>
            <a:ext cx="1514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used only in this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7408800" y="5956200"/>
            <a:ext cx="151452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shared with another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81288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A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340200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Dr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4915080" y="826920"/>
            <a:ext cx="27064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Interv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6"/>
          <p:cNvSpPr/>
          <p:nvPr/>
        </p:nvSpPr>
        <p:spPr>
          <a:xfrm>
            <a:off x="1515960" y="30639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7"/>
          <p:cNvSpPr/>
          <p:nvPr/>
        </p:nvSpPr>
        <p:spPr>
          <a:xfrm>
            <a:off x="7785000" y="47242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2a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2"/>
          <p:cNvSpPr/>
          <p:nvPr/>
        </p:nvSpPr>
        <p:spPr>
          <a:xfrm>
            <a:off x="6858000" y="6645240"/>
            <a:ext cx="187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64FC024-04EA-41A0-B815-112EFDEEB485}" type="slidenum">
              <a:rPr b="0" lang="en-GB" sz="1000" spc="-1" strike="noStrike">
                <a:solidFill>
                  <a:srgbClr val="0072c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GB" sz="2800" spc="-1" strike="noStrike">
                <a:solidFill>
                  <a:srgbClr val="0072c6"/>
                </a:solidFill>
                <a:latin typeface="Arial"/>
              </a:rPr>
              <a:t>Team working Driver Diagram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57280" y="3062160"/>
            <a:ext cx="170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 well functioning theatre team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514600" y="1932120"/>
            <a:ext cx="271440" cy="2739960"/>
          </a:xfrm>
          <a:custGeom>
            <a:avLst/>
            <a:gdLst>
              <a:gd name="textAreaLeft" fmla="*/ 173520 w 271440"/>
              <a:gd name="textAreaRight" fmla="*/ 271800 w 271440"/>
              <a:gd name="textAreaTop" fmla="*/ 71280 h 2739960"/>
              <a:gd name="textAreaBottom" fmla="*/ 2668680 h 27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987640" y="187308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987640" y="305604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mpetenc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987640" y="390060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576760" y="138924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Team Brief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576760" y="169056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Team Debrief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576760" y="196056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Time ou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576760" y="2862360"/>
            <a:ext cx="286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nsure staff adequately traine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576760" y="3252960"/>
            <a:ext cx="31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nsure staff have regular 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xperienc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576760" y="386388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Form Consistent team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5576760" y="434988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inimise Staff turnover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576760" y="480852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Tackle Unplanned absenc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5129280" y="1531800"/>
            <a:ext cx="291960" cy="1130400"/>
          </a:xfrm>
          <a:custGeom>
            <a:avLst/>
            <a:gdLst>
              <a:gd name="textAreaLeft" fmla="*/ 186480 w 291960"/>
              <a:gd name="textAreaRight" fmla="*/ 292320 w 29196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130720" y="2948040"/>
            <a:ext cx="290520" cy="471600"/>
          </a:xfrm>
          <a:custGeom>
            <a:avLst/>
            <a:gdLst>
              <a:gd name="textAreaLeft" fmla="*/ 185760 w 290520"/>
              <a:gd name="textAreaRight" fmla="*/ 290880 w 29052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5132520" y="3878280"/>
            <a:ext cx="288720" cy="204840"/>
          </a:xfrm>
          <a:custGeom>
            <a:avLst/>
            <a:gdLst>
              <a:gd name="textAreaLeft" fmla="*/ 184680 w 288720"/>
              <a:gd name="textAreaRight" fmla="*/ 289080 w 288720"/>
              <a:gd name="textAreaTop" fmla="*/ 5040 h 204840"/>
              <a:gd name="textAreaBottom" fmla="*/ 199800 h 20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3581280" y="330984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7872480" y="312912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2"/>
          <p:cNvSpPr/>
          <p:nvPr/>
        </p:nvSpPr>
        <p:spPr>
          <a:xfrm>
            <a:off x="7672320" y="37591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3581280" y="48085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4"/>
          <p:cNvSpPr/>
          <p:nvPr/>
        </p:nvSpPr>
        <p:spPr>
          <a:xfrm>
            <a:off x="7872480" y="472608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5"/>
          <p:cNvSpPr/>
          <p:nvPr/>
        </p:nvSpPr>
        <p:spPr>
          <a:xfrm>
            <a:off x="7837560" y="425448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7"/>
          <p:cNvSpPr/>
          <p:nvPr/>
        </p:nvSpPr>
        <p:spPr>
          <a:xfrm>
            <a:off x="1233360" y="357984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3144960" y="4570560"/>
            <a:ext cx="1328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nfidenc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3"/>
          <p:cNvSpPr/>
          <p:nvPr/>
        </p:nvSpPr>
        <p:spPr>
          <a:xfrm>
            <a:off x="6669000" y="122724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4"/>
          <p:cNvSpPr/>
          <p:nvPr/>
        </p:nvSpPr>
        <p:spPr>
          <a:xfrm>
            <a:off x="7002360" y="157464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5"/>
          <p:cNvSpPr/>
          <p:nvPr/>
        </p:nvSpPr>
        <p:spPr>
          <a:xfrm>
            <a:off x="6527880" y="1889280"/>
            <a:ext cx="33156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7008840" y="54784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7008840" y="60357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7421400" y="5411880"/>
            <a:ext cx="1514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used only in this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7408800" y="6027840"/>
            <a:ext cx="151452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shared with another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109440" y="5235480"/>
            <a:ext cx="43642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T0 Team-working scores using naïve observer report fo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 % lists with Team Brief (or # Team Brief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 % lists with Team Debrief (or # Team Debrief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 % lists with Time Out (or # Time Out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6 Proportion of staff with HF/team skills training (by disciplin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7 Proportion of time was spent working in normal a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8 Number of different staff worked in theatres per li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1"/>
          <p:cNvSpPr/>
          <p:nvPr/>
        </p:nvSpPr>
        <p:spPr>
          <a:xfrm>
            <a:off x="5132520" y="4435560"/>
            <a:ext cx="290520" cy="471240"/>
          </a:xfrm>
          <a:custGeom>
            <a:avLst/>
            <a:gdLst>
              <a:gd name="textAreaLeft" fmla="*/ 185760 w 290520"/>
              <a:gd name="textAreaRight" fmla="*/ 290880 w 290520"/>
              <a:gd name="textAreaTop" fmla="*/ 12240 h 471240"/>
              <a:gd name="textAreaBottom" fmla="*/ 459000 h 47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4851360" y="5321160"/>
            <a:ext cx="16765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19 Staff surv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0 Staff turno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1Sickness abs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4 Compliance with mandatory training &amp; appraisal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81288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A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4"/>
          <p:cNvSpPr/>
          <p:nvPr/>
        </p:nvSpPr>
        <p:spPr>
          <a:xfrm>
            <a:off x="340200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Dr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5"/>
          <p:cNvSpPr/>
          <p:nvPr/>
        </p:nvSpPr>
        <p:spPr>
          <a:xfrm>
            <a:off x="4915080" y="826920"/>
            <a:ext cx="27064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Interv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5592600" y="2219400"/>
            <a:ext cx="181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Report all incident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5594400" y="2506680"/>
            <a:ext cx="299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Do Executive safety walk-round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8"/>
          <p:cNvSpPr/>
          <p:nvPr/>
        </p:nvSpPr>
        <p:spPr>
          <a:xfrm>
            <a:off x="206280" y="4486680"/>
            <a:ext cx="2052720" cy="641880"/>
          </a:xfrm>
          <a:prstGeom prst="wedgeRoundRectCallout">
            <a:avLst>
              <a:gd name="adj1" fmla="val 108685"/>
              <a:gd name="adj2" fmla="val 18212"/>
              <a:gd name="adj3" fmla="val 16667"/>
            </a:avLst>
          </a:prstGeom>
          <a:solidFill>
            <a:srgbClr val="c7c2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o regularly with 3 minute survey. Need randomisa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9"/>
          <p:cNvSpPr/>
          <p:nvPr/>
        </p:nvSpPr>
        <p:spPr>
          <a:xfrm>
            <a:off x="8259840" y="2705040"/>
            <a:ext cx="331560" cy="360360"/>
          </a:xfrm>
          <a:prstGeom prst="octagon">
            <a:avLst>
              <a:gd name="adj" fmla="val 29287"/>
            </a:avLst>
          </a:prstGeom>
          <a:solidFill>
            <a:srgbClr val="62a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2"/>
          <p:cNvSpPr/>
          <p:nvPr/>
        </p:nvSpPr>
        <p:spPr>
          <a:xfrm>
            <a:off x="6858000" y="6645240"/>
            <a:ext cx="187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B56C596-F053-43F2-A2B5-2C5B8CD3FAAD}" type="slidenum">
              <a:rPr b="0" lang="en-GB" sz="1000" spc="-1" strike="noStrike">
                <a:solidFill>
                  <a:srgbClr val="0072c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GB" sz="2800" spc="-1" strike="noStrike">
                <a:solidFill>
                  <a:srgbClr val="0072c6"/>
                </a:solidFill>
                <a:latin typeface="Arial"/>
              </a:rPr>
              <a:t>Efficiency &amp; Value Driver Diagram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57280" y="3068640"/>
            <a:ext cx="170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Deliver plan to budge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2357280" y="1773360"/>
            <a:ext cx="473400" cy="3338280"/>
          </a:xfrm>
          <a:custGeom>
            <a:avLst/>
            <a:gdLst>
              <a:gd name="textAreaLeft" fmla="*/ 302400 w 473400"/>
              <a:gd name="textAreaRight" fmla="*/ 473760 w 473400"/>
              <a:gd name="textAreaTop" fmla="*/ 86760 h 3338280"/>
              <a:gd name="textAreaBottom" fmla="*/ 3251520 h 33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987640" y="174456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Run lists you plan to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87640" y="2712960"/>
            <a:ext cx="170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Run lists to tim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987640" y="3772080"/>
            <a:ext cx="170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inimise delay between cas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576760" y="1417680"/>
            <a:ext cx="2708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nsure correct staff availabl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576760" y="173340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Ensure correct kit availabl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576760" y="2048040"/>
            <a:ext cx="2708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Ensure correct patients availabl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576760" y="2505240"/>
            <a:ext cx="254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nsure start on tim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576760" y="2835360"/>
            <a:ext cx="305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nsure lists filled appropriatel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576760" y="3465720"/>
            <a:ext cx="2719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Have reliable process for fetching patient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576760" y="3978360"/>
            <a:ext cx="287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inimise theatre turnaround tim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5576760" y="449424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inimise interruptio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5129280" y="1515960"/>
            <a:ext cx="293760" cy="701640"/>
          </a:xfrm>
          <a:custGeom>
            <a:avLst/>
            <a:gdLst>
              <a:gd name="textAreaLeft" fmla="*/ 187560 w 293760"/>
              <a:gd name="textAreaRight" fmla="*/ 294120 w 29376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5130720" y="2579760"/>
            <a:ext cx="293760" cy="382680"/>
          </a:xfrm>
          <a:custGeom>
            <a:avLst/>
            <a:gdLst>
              <a:gd name="textAreaLeft" fmla="*/ 187560 w 293760"/>
              <a:gd name="textAreaRight" fmla="*/ 294120 w 293760"/>
              <a:gd name="textAreaTop" fmla="*/ 9720 h 382680"/>
              <a:gd name="textAreaBottom" fmla="*/ 372960 h 3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5132520" y="3510000"/>
            <a:ext cx="290520" cy="568440"/>
          </a:xfrm>
          <a:custGeom>
            <a:avLst/>
            <a:gdLst>
              <a:gd name="textAreaLeft" fmla="*/ 185760 w 290520"/>
              <a:gd name="textAreaRight" fmla="*/ 290880 w 290520"/>
              <a:gd name="textAreaTop" fmla="*/ 14760 h 568440"/>
              <a:gd name="textAreaBottom" fmla="*/ 553680 h 56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"/>
          <p:cNvSpPr/>
          <p:nvPr/>
        </p:nvSpPr>
        <p:spPr>
          <a:xfrm>
            <a:off x="7373880" y="24051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8213760" y="27655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2"/>
          <p:cNvSpPr/>
          <p:nvPr/>
        </p:nvSpPr>
        <p:spPr>
          <a:xfrm>
            <a:off x="3584520" y="2954160"/>
            <a:ext cx="331920" cy="36072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3"/>
          <p:cNvSpPr/>
          <p:nvPr/>
        </p:nvSpPr>
        <p:spPr>
          <a:xfrm>
            <a:off x="8450280" y="37972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4"/>
          <p:cNvSpPr/>
          <p:nvPr/>
        </p:nvSpPr>
        <p:spPr>
          <a:xfrm>
            <a:off x="7540560" y="435924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6"/>
          <p:cNvSpPr/>
          <p:nvPr/>
        </p:nvSpPr>
        <p:spPr>
          <a:xfrm>
            <a:off x="8283600" y="21193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2989440" y="4516560"/>
            <a:ext cx="169992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ake similar procedures more consistent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5592600" y="4921200"/>
            <a:ext cx="254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Ensure right kit to han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>
            <a:off x="5132520" y="4538520"/>
            <a:ext cx="291960" cy="621000"/>
          </a:xfrm>
          <a:custGeom>
            <a:avLst/>
            <a:gdLst>
              <a:gd name="textAreaLeft" fmla="*/ 186480 w 291960"/>
              <a:gd name="textAreaRight" fmla="*/ 292320 w 291960"/>
              <a:gd name="textAreaTop" fmla="*/ 16200 h 621000"/>
              <a:gd name="textAreaBottom" fmla="*/ 604800 h 6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3"/>
          <p:cNvSpPr/>
          <p:nvPr/>
        </p:nvSpPr>
        <p:spPr>
          <a:xfrm>
            <a:off x="957240" y="35719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E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7"/>
          <p:cNvSpPr/>
          <p:nvPr/>
        </p:nvSpPr>
        <p:spPr>
          <a:xfrm>
            <a:off x="7881840" y="16257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8"/>
          <p:cNvSpPr/>
          <p:nvPr/>
        </p:nvSpPr>
        <p:spPr>
          <a:xfrm>
            <a:off x="8296200" y="16257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9"/>
          <p:cNvSpPr/>
          <p:nvPr/>
        </p:nvSpPr>
        <p:spPr>
          <a:xfrm>
            <a:off x="7621560" y="48340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1504800" y="35719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2a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81288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A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340200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Dr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915080" y="826920"/>
            <a:ext cx="27064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Interv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125280" y="4740120"/>
            <a:ext cx="41925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E0 % value added t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E1 Lost incom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7 % correct kit to h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8 % usable k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2 % patients lost from theatre list (all reason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3 Direct care time (Needle to skin =&gt; In recover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4 Late star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5 Early finish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6 Turnaround time (In Recovery =&gt; Needle to ski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7 Number of glitches (interruptions, messages, phone call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5"/>
          <p:cNvSpPr/>
          <p:nvPr/>
        </p:nvSpPr>
        <p:spPr>
          <a:xfrm>
            <a:off x="7008840" y="54784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>
            <a:off x="7008840" y="60357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7421400" y="5411880"/>
            <a:ext cx="1514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used only in this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8"/>
          <p:cNvSpPr/>
          <p:nvPr/>
        </p:nvSpPr>
        <p:spPr>
          <a:xfrm>
            <a:off x="7408800" y="6027840"/>
            <a:ext cx="151452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shared with another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6858000" y="6645240"/>
            <a:ext cx="187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BC7DCAF-8C0B-48A6-A3D4-F37302110A48}" type="slidenum">
              <a:rPr b="0" lang="en-GB" sz="1000" spc="-1" strike="noStrike">
                <a:solidFill>
                  <a:srgbClr val="0072c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4840" y="306000"/>
            <a:ext cx="70372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How to prioritise interventions in Efficiency &amp; Value</a:t>
            </a:r>
            <a:endParaRPr b="1" lang="en-US" sz="20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04840" y="11844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84320" y="38386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3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98360" y="2700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69920" y="48196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3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80"/>
          <p:cNvSpPr/>
          <p:nvPr/>
        </p:nvSpPr>
        <p:spPr>
          <a:xfrm>
            <a:off x="7122960" y="3770280"/>
            <a:ext cx="352440" cy="1193760"/>
          </a:xfrm>
          <a:custGeom>
            <a:avLst/>
            <a:gdLst>
              <a:gd name="textAreaLeft" fmla="*/ 0 w 352440"/>
              <a:gd name="textAreaRight" fmla="*/ 352800 w 35244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1133" h="4725">
                <a:moveTo>
                  <a:pt x="0" y="0"/>
                </a:moveTo>
                <a:cubicBezTo>
                  <a:pt x="313" y="0"/>
                  <a:pt x="567" y="176"/>
                  <a:pt x="567" y="394"/>
                </a:cubicBezTo>
                <a:lnTo>
                  <a:pt x="567" y="1969"/>
                </a:lnTo>
                <a:cubicBezTo>
                  <a:pt x="567" y="2186"/>
                  <a:pt x="820" y="2362"/>
                  <a:pt x="1133" y="2362"/>
                </a:cubicBezTo>
                <a:cubicBezTo>
                  <a:pt x="820" y="2362"/>
                  <a:pt x="567" y="2539"/>
                  <a:pt x="567" y="2756"/>
                </a:cubicBezTo>
                <a:lnTo>
                  <a:pt x="567" y="4331"/>
                </a:lnTo>
                <a:cubicBezTo>
                  <a:pt x="567" y="4549"/>
                  <a:pt x="313" y="4725"/>
                  <a:pt x="0" y="4725"/>
                </a:cubicBez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8"/>
          <p:cNvSpPr/>
          <p:nvPr/>
        </p:nvSpPr>
        <p:spPr>
          <a:xfrm>
            <a:off x="636480" y="942840"/>
            <a:ext cx="27241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Is there an approximate match between demand (cases being booked) and scheduled operating capacity?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9"/>
          <p:cNvSpPr/>
          <p:nvPr/>
        </p:nvSpPr>
        <p:spPr>
          <a:xfrm>
            <a:off x="4286160" y="969840"/>
            <a:ext cx="2979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Calculate list capacity needed (by Consultant or specialty) to deal with volume and variation in 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0"/>
          <p:cNvSpPr/>
          <p:nvPr/>
        </p:nvSpPr>
        <p:spPr>
          <a:xfrm>
            <a:off x="3486240" y="969840"/>
            <a:ext cx="681120" cy="638280"/>
          </a:xfrm>
          <a:prstGeom prst="rightArrow">
            <a:avLst>
              <a:gd name="adj1" fmla="val 50000"/>
              <a:gd name="adj2" fmla="val 2667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1"/>
          <p:cNvSpPr/>
          <p:nvPr/>
        </p:nvSpPr>
        <p:spPr>
          <a:xfrm>
            <a:off x="1527120" y="1986120"/>
            <a:ext cx="806400" cy="45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2"/>
          <p:cNvSpPr/>
          <p:nvPr/>
        </p:nvSpPr>
        <p:spPr>
          <a:xfrm>
            <a:off x="623880" y="2516040"/>
            <a:ext cx="2724120" cy="646200"/>
          </a:xfrm>
          <a:prstGeom prst="rect">
            <a:avLst/>
          </a:prstGeom>
          <a:solidFill>
            <a:srgbClr val="62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Are planned, staffed lists taking place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3"/>
          <p:cNvSpPr/>
          <p:nvPr/>
        </p:nvSpPr>
        <p:spPr>
          <a:xfrm>
            <a:off x="620640" y="3768840"/>
            <a:ext cx="2724120" cy="399960"/>
          </a:xfrm>
          <a:prstGeom prst="rect">
            <a:avLst/>
          </a:prstGeom>
          <a:solidFill>
            <a:srgbClr val="62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Are lists running to time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4"/>
          <p:cNvSpPr/>
          <p:nvPr/>
        </p:nvSpPr>
        <p:spPr>
          <a:xfrm>
            <a:off x="1528920" y="3244680"/>
            <a:ext cx="806400" cy="45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5"/>
          <p:cNvSpPr/>
          <p:nvPr/>
        </p:nvSpPr>
        <p:spPr>
          <a:xfrm>
            <a:off x="4240080" y="2517840"/>
            <a:ext cx="2724120" cy="646200"/>
          </a:xfrm>
          <a:prstGeom prst="rect">
            <a:avLst/>
          </a:prstGeom>
          <a:solidFill>
            <a:srgbClr val="62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Take steps to fill all available staffed lis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6"/>
          <p:cNvSpPr/>
          <p:nvPr/>
        </p:nvSpPr>
        <p:spPr>
          <a:xfrm>
            <a:off x="3448080" y="2516040"/>
            <a:ext cx="681120" cy="638280"/>
          </a:xfrm>
          <a:prstGeom prst="rightArrow">
            <a:avLst>
              <a:gd name="adj1" fmla="val 50000"/>
              <a:gd name="adj2" fmla="val 2667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7"/>
          <p:cNvSpPr/>
          <p:nvPr/>
        </p:nvSpPr>
        <p:spPr>
          <a:xfrm>
            <a:off x="4240080" y="3516480"/>
            <a:ext cx="2724120" cy="895320"/>
          </a:xfrm>
          <a:prstGeom prst="rect">
            <a:avLst/>
          </a:prstGeom>
          <a:solidFill>
            <a:srgbClr val="62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For late start/ finish do root cause analysis.  For early finish look at scheduling and cancell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8"/>
          <p:cNvSpPr/>
          <p:nvPr/>
        </p:nvSpPr>
        <p:spPr>
          <a:xfrm>
            <a:off x="7621560" y="4135320"/>
            <a:ext cx="1076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Order inter-chan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9"/>
          <p:cNvSpPr/>
          <p:nvPr/>
        </p:nvSpPr>
        <p:spPr>
          <a:xfrm>
            <a:off x="3463920" y="3646440"/>
            <a:ext cx="681120" cy="638280"/>
          </a:xfrm>
          <a:prstGeom prst="rightArrow">
            <a:avLst>
              <a:gd name="adj1" fmla="val 50000"/>
              <a:gd name="adj2" fmla="val 2667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0"/>
          <p:cNvSpPr/>
          <p:nvPr/>
        </p:nvSpPr>
        <p:spPr>
          <a:xfrm>
            <a:off x="622440" y="4743360"/>
            <a:ext cx="2724120" cy="459000"/>
          </a:xfrm>
          <a:prstGeom prst="rect">
            <a:avLst/>
          </a:prstGeom>
          <a:solidFill>
            <a:srgbClr val="62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In turn-round efficient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1"/>
          <p:cNvSpPr/>
          <p:nvPr/>
        </p:nvSpPr>
        <p:spPr>
          <a:xfrm>
            <a:off x="4268880" y="4743360"/>
            <a:ext cx="2724120" cy="459000"/>
          </a:xfrm>
          <a:prstGeom prst="rect">
            <a:avLst/>
          </a:prstGeom>
          <a:solidFill>
            <a:srgbClr val="62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Work on turn-round (SM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2"/>
          <p:cNvSpPr/>
          <p:nvPr/>
        </p:nvSpPr>
        <p:spPr>
          <a:xfrm>
            <a:off x="3479760" y="4648320"/>
            <a:ext cx="681120" cy="637920"/>
          </a:xfrm>
          <a:prstGeom prst="rightArrow">
            <a:avLst>
              <a:gd name="adj1" fmla="val 50000"/>
              <a:gd name="adj2" fmla="val 266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3"/>
          <p:cNvSpPr/>
          <p:nvPr/>
        </p:nvSpPr>
        <p:spPr>
          <a:xfrm>
            <a:off x="620640" y="5788080"/>
            <a:ext cx="2724120" cy="903240"/>
          </a:xfrm>
          <a:prstGeom prst="rect">
            <a:avLst/>
          </a:prstGeom>
          <a:solidFill>
            <a:srgbClr val="62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Analyse procedure times and do Activity Follows to see if there are glitches holding up c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4"/>
          <p:cNvSpPr/>
          <p:nvPr/>
        </p:nvSpPr>
        <p:spPr>
          <a:xfrm>
            <a:off x="1530360" y="4246560"/>
            <a:ext cx="806400" cy="45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5"/>
          <p:cNvSpPr/>
          <p:nvPr/>
        </p:nvSpPr>
        <p:spPr>
          <a:xfrm>
            <a:off x="1531800" y="5276880"/>
            <a:ext cx="806760" cy="45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6858000" y="6645240"/>
            <a:ext cx="187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5B121B8-1FE6-407E-BEF7-39F58A35FCBE}" type="slidenum">
              <a:rPr b="0" lang="en-GB" sz="1000" spc="-1" strike="noStrike">
                <a:solidFill>
                  <a:srgbClr val="0072c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4840" y="306360"/>
            <a:ext cx="70372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GB" sz="2400" spc="-1" strike="noStrike">
                <a:solidFill>
                  <a:srgbClr val="0072c6"/>
                </a:solidFill>
                <a:latin typeface="Arial"/>
              </a:rPr>
              <a:t>Patient Experience &amp; Outcome Driver Diagram</a:t>
            </a:r>
            <a:endParaRPr b="1" lang="en-US" sz="24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57280" y="3191040"/>
            <a:ext cx="170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 good patient experienc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2514600" y="1932120"/>
            <a:ext cx="271440" cy="2749320"/>
          </a:xfrm>
          <a:custGeom>
            <a:avLst/>
            <a:gdLst>
              <a:gd name="textAreaLeft" fmla="*/ 173520 w 271440"/>
              <a:gd name="textAreaRight" fmla="*/ 271800 w 271440"/>
              <a:gd name="textAreaTop" fmla="*/ 71640 h 2749320"/>
              <a:gd name="textAreaBottom" fmla="*/ 2677680 h 27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987640" y="1887480"/>
            <a:ext cx="170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void unnecessary dela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987640" y="3127320"/>
            <a:ext cx="170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Keep the patient informe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987640" y="4272120"/>
            <a:ext cx="170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void unnecessary discomfo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576760" y="137484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inimise pre-op tim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576760" y="173340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inimise starvation tim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576760" y="203364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Avoid cancella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5576760" y="2962440"/>
            <a:ext cx="254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Provide relevant informa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576760" y="3335400"/>
            <a:ext cx="3257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Provide information in timely fash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576760" y="390672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ntrol pain effectivel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576760" y="4208760"/>
            <a:ext cx="2295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Implement SSI bundle</a:t>
            </a: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inc</a:t>
            </a: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Control body temperatur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576760" y="4681800"/>
            <a:ext cx="2295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Minimise complications in recover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5576760" y="239220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ahoma"/>
              </a:rPr>
              <a:t>Provide timely recover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"/>
          <p:cNvSpPr/>
          <p:nvPr/>
        </p:nvSpPr>
        <p:spPr>
          <a:xfrm>
            <a:off x="5129280" y="1349280"/>
            <a:ext cx="291960" cy="1077840"/>
          </a:xfrm>
          <a:custGeom>
            <a:avLst/>
            <a:gdLst>
              <a:gd name="textAreaLeft" fmla="*/ 186480 w 291960"/>
              <a:gd name="textAreaRight" fmla="*/ 292320 w 291960"/>
              <a:gd name="textAreaTop" fmla="*/ 28080 h 1077840"/>
              <a:gd name="textAreaBottom" fmla="*/ 1049760 h 107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1"/>
          <p:cNvSpPr/>
          <p:nvPr/>
        </p:nvSpPr>
        <p:spPr>
          <a:xfrm>
            <a:off x="5130720" y="2962440"/>
            <a:ext cx="290520" cy="561960"/>
          </a:xfrm>
          <a:custGeom>
            <a:avLst/>
            <a:gdLst>
              <a:gd name="textAreaLeft" fmla="*/ 185760 w 290520"/>
              <a:gd name="textAreaRight" fmla="*/ 290880 w 290520"/>
              <a:gd name="textAreaTop" fmla="*/ 14400 h 561960"/>
              <a:gd name="textAreaBottom" fmla="*/ 547560 h 5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2"/>
          <p:cNvSpPr/>
          <p:nvPr/>
        </p:nvSpPr>
        <p:spPr>
          <a:xfrm>
            <a:off x="5132520" y="3906720"/>
            <a:ext cx="288720" cy="1171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0240 h 1171800"/>
              <a:gd name="textAreaBottom" fmla="*/ 1141560 h 11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4"/>
          <p:cNvSpPr/>
          <p:nvPr/>
        </p:nvSpPr>
        <p:spPr>
          <a:xfrm>
            <a:off x="7540560" y="11685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5"/>
          <p:cNvSpPr/>
          <p:nvPr/>
        </p:nvSpPr>
        <p:spPr>
          <a:xfrm>
            <a:off x="7951680" y="15256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6"/>
          <p:cNvSpPr/>
          <p:nvPr/>
        </p:nvSpPr>
        <p:spPr>
          <a:xfrm>
            <a:off x="7242120" y="19321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7705800" y="223056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8"/>
          <p:cNvSpPr/>
          <p:nvPr/>
        </p:nvSpPr>
        <p:spPr>
          <a:xfrm>
            <a:off x="7621560" y="38289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9"/>
          <p:cNvSpPr/>
          <p:nvPr/>
        </p:nvSpPr>
        <p:spPr>
          <a:xfrm>
            <a:off x="7953480" y="4229280"/>
            <a:ext cx="331560" cy="360360"/>
          </a:xfrm>
          <a:prstGeom prst="octagon">
            <a:avLst>
              <a:gd name="adj" fmla="val 29287"/>
            </a:avLst>
          </a:prstGeom>
          <a:solidFill>
            <a:srgbClr val="62a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0"/>
          <p:cNvSpPr/>
          <p:nvPr/>
        </p:nvSpPr>
        <p:spPr>
          <a:xfrm>
            <a:off x="7786800" y="4718160"/>
            <a:ext cx="33156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1"/>
          <p:cNvSpPr/>
          <p:nvPr/>
        </p:nvSpPr>
        <p:spPr>
          <a:xfrm>
            <a:off x="1104840" y="36511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P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81288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A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3402000" y="826920"/>
            <a:ext cx="9158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Dr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4915080" y="826920"/>
            <a:ext cx="27064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2000" spc="-1" strike="noStrike">
                <a:solidFill>
                  <a:srgbClr val="0072c6"/>
                </a:solidFill>
                <a:latin typeface="Arial"/>
              </a:rPr>
              <a:t>Interv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1"/>
          <p:cNvSpPr/>
          <p:nvPr/>
        </p:nvSpPr>
        <p:spPr>
          <a:xfrm>
            <a:off x="1592280" y="365292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3"/>
          <p:cNvSpPr/>
          <p:nvPr/>
        </p:nvSpPr>
        <p:spPr>
          <a:xfrm>
            <a:off x="7008840" y="5478480"/>
            <a:ext cx="331920" cy="36036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4"/>
          <p:cNvSpPr/>
          <p:nvPr/>
        </p:nvSpPr>
        <p:spPr>
          <a:xfrm>
            <a:off x="7008840" y="6035760"/>
            <a:ext cx="331920" cy="36036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5"/>
          <p:cNvSpPr/>
          <p:nvPr/>
        </p:nvSpPr>
        <p:spPr>
          <a:xfrm>
            <a:off x="7421400" y="5411880"/>
            <a:ext cx="1514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used only in this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6"/>
          <p:cNvSpPr/>
          <p:nvPr/>
        </p:nvSpPr>
        <p:spPr>
          <a:xfrm>
            <a:off x="7408800" y="6027840"/>
            <a:ext cx="151452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Measure shared with another doma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122400" y="4827600"/>
            <a:ext cx="49701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P0 Overall patient experience score (from surve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P1 Patient Recorded Outcome Measures (PROM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8 Average time from admission to anaesthetic 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29 Average time patient is starv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0 % patients who got their original TCI d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1 Average Recovery del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2 Average pain score in Reco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6 % patients with ‘normal’ body temperature (part of SSI bundl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33 % patients complication free in Reco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0:35:10Z</dcterms:created>
  <dc:creator>Mike Davidge</dc:creator>
  <dc:description>Version 1.1</dc:description>
  <cp:keywords>Message Universal Template A4</cp:keywords>
  <dc:language>en-US</dc:language>
  <cp:lastModifiedBy> Yesret Bi</cp:lastModifiedBy>
  <cp:lastPrinted>2007-06-28T15:08:03Z</cp:lastPrinted>
  <dcterms:modified xsi:type="dcterms:W3CDTF">2010-02-12T23:14:07Z</dcterms:modified>
  <cp:revision>29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le</vt:lpwstr>
  </property>
  <property fmtid="{D5CDD505-2E9C-101B-9397-08002B2CF9AE}" pid="12" name="Universal Objects">
    <vt:bool>1</vt:bool>
  </property>
</Properties>
</file>