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FE6C-5FCA-40C0-8159-A404B1022B9E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46B1-C10E-4DED-9435-5A149C22C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A7CA-707E-4939-912F-D8F68CB4423A}" type="slidenum">
              <a:rPr b="0" lang="en-GB" sz="1200" spc="-1" strike="noStrike">
                <a:solidFill>
                  <a:srgbClr val="0038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676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35400" y="162576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812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676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35400" y="3808800"/>
            <a:ext cx="266508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547560"/>
            <a:ext cx="827712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0880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812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625760"/>
            <a:ext cx="403920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8120" y="3808800"/>
            <a:ext cx="8277120" cy="19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:\Depts\Communications\Marketing\Branding\HEE graphic elements\Rectangle box\PNG format\Rec-Boxed-bracket---WHITE-INVERSE-left-aligned.png"/>
          <p:cNvPicPr/>
          <p:nvPr/>
        </p:nvPicPr>
        <p:blipFill>
          <a:blip r:embed="rId2"/>
          <a:stretch/>
        </p:blipFill>
        <p:spPr>
          <a:xfrm>
            <a:off x="144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TextBox 9"/>
          <p:cNvSpPr/>
          <p:nvPr/>
        </p:nvSpPr>
        <p:spPr>
          <a:xfrm>
            <a:off x="3387600" y="6165720"/>
            <a:ext cx="56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893"/>
                </a:solidFill>
                <a:latin typeface="Frutiger Neue LT Pro Regular"/>
              </a:rPr>
              <a:t>Developing people for health and healthcare</a:t>
            </a:r>
            <a:endParaRPr b="0" lang="en-US" sz="14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2" name="Round Same Side Corner Rectangle 7"/>
          <p:cNvSpPr/>
          <p:nvPr/>
        </p:nvSpPr>
        <p:spPr>
          <a:xfrm>
            <a:off x="395280" y="51768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3" name="Round Same Side Corner Rectangle 37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4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3059280" y="674640"/>
            <a:ext cx="1384200" cy="574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R:\Depts\Communications\Marketing\Branding\Logo\NHS\NHS-Constitution-logo.png"/>
          <p:cNvPicPr/>
          <p:nvPr/>
        </p:nvPicPr>
        <p:blipFill>
          <a:blip r:embed="rId4"/>
          <a:stretch/>
        </p:blipFill>
        <p:spPr>
          <a:xfrm>
            <a:off x="250920" y="6114960"/>
            <a:ext cx="622080" cy="622440"/>
          </a:xfrm>
          <a:prstGeom prst="rect">
            <a:avLst/>
          </a:prstGeom>
          <a:ln w="0">
            <a:noFill/>
          </a:ln>
        </p:spPr>
      </p:pic>
      <p:sp>
        <p:nvSpPr>
          <p:cNvPr id="6" name="TextBox 9"/>
          <p:cNvSpPr/>
          <p:nvPr/>
        </p:nvSpPr>
        <p:spPr>
          <a:xfrm>
            <a:off x="561960" y="65232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</a:rPr>
              <a:t>Developing people for health and healthcare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708360" y="623556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:\Depts\Communications\Marketing\Branding\HEE graphic elements\Rectangle box\PNG format\Rec-Boxed-bracket---WHITE_left-aligned.png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R:\Depts\Communications\Marketing\Branding\Logo\SharedServices\HE &amp; LETBS\PNG\NHS-HE-&amp;-LETBs_all_white_inverse.PNG"/>
          <p:cNvPicPr/>
          <p:nvPr/>
        </p:nvPicPr>
        <p:blipFill>
          <a:blip r:embed="rId3"/>
          <a:stretch/>
        </p:blipFill>
        <p:spPr>
          <a:xfrm>
            <a:off x="7308720" y="6148440"/>
            <a:ext cx="13845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79280" y="613080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Frutiger Neue LT Pro Regular"/>
              </a:rPr>
              <a:t>Developing people for health and healthcare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708360" y="6235560"/>
            <a:ext cx="216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b6d2ff"/>
                </a:solidFill>
                <a:latin typeface="Frutiger Neue LT Pro Regular"/>
              </a:rPr>
              <a:t>Appraisal and Revalidation</a:t>
            </a:r>
            <a:endParaRPr b="0" lang="en-US" sz="13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89" name="Round Same Side Corner Rectangle 7"/>
          <p:cNvSpPr/>
          <p:nvPr/>
        </p:nvSpPr>
        <p:spPr>
          <a:xfrm>
            <a:off x="395280" y="511200"/>
            <a:ext cx="4194360" cy="895320"/>
          </a:xfrm>
          <a:custGeom>
            <a:avLst/>
            <a:gdLst/>
            <a:ahLst/>
            <a:rect l="l" t="t" r="r" b="b"/>
            <a:pathLst>
              <a:path w="4194175" h="895350">
                <a:moveTo>
                  <a:pt x="149228" y="0"/>
                </a:moveTo>
                <a:lnTo>
                  <a:pt x="4044947" y="0"/>
                </a:lnTo>
                <a:cubicBezTo>
                  <a:pt x="4127363" y="0"/>
                  <a:pt x="4194175" y="66812"/>
                  <a:pt x="4194175" y="149228"/>
                </a:cubicBezTo>
                <a:lnTo>
                  <a:pt x="4194175" y="895350"/>
                </a:lnTo>
                <a:lnTo>
                  <a:pt x="4194175" y="895350"/>
                </a:lnTo>
                <a:lnTo>
                  <a:pt x="0" y="895350"/>
                </a:lnTo>
                <a:lnTo>
                  <a:pt x="0" y="895350"/>
                </a:lnTo>
                <a:lnTo>
                  <a:pt x="0" y="149228"/>
                </a:lnTo>
                <a:cubicBezTo>
                  <a:pt x="0" y="66812"/>
                  <a:pt x="66812" y="0"/>
                  <a:pt x="149228" y="0"/>
                </a:cubicBezTo>
                <a:close/>
              </a:path>
            </a:pathLst>
          </a:custGeom>
          <a:solidFill>
            <a:srgbClr val="00389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0" name="Round Same Side Corner Rectangle 8"/>
          <p:cNvSpPr/>
          <p:nvPr/>
        </p:nvSpPr>
        <p:spPr>
          <a:xfrm rot="10800000">
            <a:off x="394920" y="1413000"/>
            <a:ext cx="4194360" cy="3147840"/>
          </a:xfrm>
          <a:custGeom>
            <a:avLst/>
            <a:gdLst/>
            <a:ahLst/>
            <a:rect l="l" t="t" r="r" b="b"/>
            <a:pathLst>
              <a:path w="4194175" h="3148013">
                <a:moveTo>
                  <a:pt x="524679" y="0"/>
                </a:moveTo>
                <a:lnTo>
                  <a:pt x="3669496" y="0"/>
                </a:lnTo>
                <a:cubicBezTo>
                  <a:pt x="3959268" y="0"/>
                  <a:pt x="4194175" y="234907"/>
                  <a:pt x="4194175" y="524679"/>
                </a:cubicBezTo>
                <a:lnTo>
                  <a:pt x="4194175" y="3148013"/>
                </a:lnTo>
                <a:lnTo>
                  <a:pt x="4194175" y="3148013"/>
                </a:lnTo>
                <a:lnTo>
                  <a:pt x="0" y="3148013"/>
                </a:lnTo>
                <a:lnTo>
                  <a:pt x="0" y="3148013"/>
                </a:lnTo>
                <a:lnTo>
                  <a:pt x="0" y="524679"/>
                </a:lnTo>
                <a:cubicBezTo>
                  <a:pt x="0" y="234907"/>
                  <a:pt x="234907" y="0"/>
                  <a:pt x="524679" y="0"/>
                </a:cubicBezTo>
                <a:close/>
              </a:path>
            </a:pathLst>
          </a:custGeom>
          <a:solidFill>
            <a:srgbClr val="0038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91" name="Picture 12" descr="R:\Depts\Communications\Marketing\Branding\Logo\SharedServices\HE &amp; LETBS\PNG\NHS-HE-&amp;-LETBs_all_white_inverse.PNG"/>
          <p:cNvPicPr/>
          <p:nvPr/>
        </p:nvPicPr>
        <p:blipFill>
          <a:blip r:embed="rId4"/>
          <a:stretch/>
        </p:blipFill>
        <p:spPr>
          <a:xfrm>
            <a:off x="3059280" y="692280"/>
            <a:ext cx="1384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"/>
          <p:cNvGrpSpPr/>
          <p:nvPr/>
        </p:nvGrpSpPr>
        <p:grpSpPr>
          <a:xfrm>
            <a:off x="539640" y="669960"/>
            <a:ext cx="992160" cy="248040"/>
            <a:chOff x="539640" y="669960"/>
            <a:chExt cx="992160" cy="248040"/>
          </a:xfrm>
        </p:grpSpPr>
        <p:sp>
          <p:nvSpPr>
            <p:cNvPr id="93" name="Rectangle 13"/>
            <p:cNvSpPr/>
            <p:nvPr/>
          </p:nvSpPr>
          <p:spPr>
            <a:xfrm>
              <a:off x="885960" y="779400"/>
              <a:ext cx="56304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 baseline="-25000">
                  <a:solidFill>
                    <a:srgbClr val="ffffff"/>
                  </a:solidFill>
                  <a:latin typeface="Frutiger Neue LT Pro Regular"/>
                </a:rPr>
                <a:t>working on behalf of </a:t>
              </a:r>
              <a:endParaRPr b="0" lang="en-US" sz="800" spc="-1" strike="noStrike">
                <a:solidFill>
                  <a:srgbClr val="003893"/>
                </a:solidFill>
                <a:latin typeface="Arial"/>
              </a:endParaRPr>
            </a:p>
          </p:txBody>
        </p:sp>
        <p:pic>
          <p:nvPicPr>
            <p:cNvPr id="94" name="Picture 17" descr="R:\Depts\Communications\Marketing\Templates\Logo\Possible logos\SharedServices-logo-WHITE-INVERSE.png"/>
            <p:cNvPicPr/>
            <p:nvPr/>
          </p:nvPicPr>
          <p:blipFill>
            <a:blip r:embed="rId5"/>
            <a:stretch/>
          </p:blipFill>
          <p:spPr>
            <a:xfrm>
              <a:off x="539640" y="669960"/>
              <a:ext cx="992160" cy="13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38120" y="1625760"/>
            <a:ext cx="82771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buClr>
                <a:srgbClr val="00389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qip.org.uk/clinical-audit-resources-3/" TargetMode="External"/><Relationship Id="rId2" Type="http://schemas.openxmlformats.org/officeDocument/2006/relationships/hyperlink" Target="http://www.gmc-uk.org/doctors/revalidation/revalidation_gmp_framework.asp" TargetMode="External"/><Relationship Id="rId3" Type="http://schemas.openxmlformats.org/officeDocument/2006/relationships/hyperlink" Target="http://www.gmc-uk.org/doctors/revalidation.asp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3741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PPRAISAL &amp; REVALIDA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UDIT 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8120" y="547560"/>
            <a:ext cx="82771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GMC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280"/>
            <a:ext cx="82774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GMP Domain 1 “Knowledge, skills and performance”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1.1 Maintain your professional performanc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ake part in and respond constructively to the outcomes of systematic quality improvement activities e.g. audit”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629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The clinical audit cycle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pic>
        <p:nvPicPr>
          <p:cNvPr id="144" name="Content Placeholder 6" descr="circ_audit cycle.jpg"/>
          <p:cNvPicPr/>
          <p:nvPr/>
        </p:nvPicPr>
        <p:blipFill>
          <a:blip r:embed="rId1"/>
          <a:srcRect l="0" t="0" r="0" b="13067"/>
          <a:stretch/>
        </p:blipFill>
        <p:spPr>
          <a:xfrm>
            <a:off x="1752480" y="790560"/>
            <a:ext cx="54835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RCGP Recommendation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2352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One 2-cycle audit (audit and re-audit) in the 5-year revalidation cycl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he GP must have contributed to the choice of topic and standards se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he GP must be able to identify the care they are delivering within the audit cycl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he GP must state changes they instituted and the effects of those chang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0" y="6356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Version 5.0 December 2010</a:t>
            </a:r>
            <a:endParaRPr b="0" lang="en-US" sz="1200" spc="-1" strike="noStrike">
              <a:solidFill>
                <a:srgbClr val="0038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Key Principles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699920"/>
            <a:ext cx="6629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udit must demonstrate: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Relevanc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ersonal engage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Reflection on current personal practic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Introduce changes to improve car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how personal chang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0" name="Picture 3" descr="Get involved.jpg"/>
          <p:cNvPicPr/>
          <p:nvPr/>
        </p:nvPicPr>
        <p:blipFill>
          <a:blip r:embed="rId1"/>
          <a:stretch/>
        </p:blipFill>
        <p:spPr>
          <a:xfrm>
            <a:off x="4800600" y="1600200"/>
            <a:ext cx="38862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893"/>
                </a:solidFill>
                <a:latin typeface="Arial"/>
              </a:rPr>
              <a:t>Stages of Audit</a:t>
            </a:r>
            <a:endParaRPr b="1" lang="en-US" sz="40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2352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reparation and plann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440" indent="45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ason for choi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440" indent="45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Criteria &amp; standards set -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ference to guidelines</a:t>
            </a:r>
            <a:br>
              <a:rPr sz="1600"/>
            </a:b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easuring performanc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440" indent="45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Compare results with the standards se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440" indent="45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ummary of discussion and changes agre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440" indent="455760">
              <a:spcBef>
                <a:spcPts val="10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anges to be implement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ersonal implementation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ustaining improve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893"/>
                </a:solidFill>
                <a:latin typeface="Arial"/>
              </a:rPr>
              <a:t>Appraisal Documentation</a:t>
            </a:r>
            <a:endParaRPr b="1" lang="en-US" sz="28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12536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Relevance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ersonal engage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tanda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Reflection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ersonal Change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Improve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etail </a:t>
            </a:r>
            <a:r>
              <a:rPr b="1" lang="en-GB" sz="1800" spc="-1" strike="noStrike" u="sng">
                <a:solidFill>
                  <a:srgbClr val="4d4d4d"/>
                </a:solidFill>
                <a:uFillTx/>
                <a:latin typeface="Arial"/>
              </a:rPr>
              <a:t>what part of the audit cycle you have seen </a:t>
            </a:r>
            <a:r>
              <a:rPr b="1" lang="en-GB" sz="1800" spc="-1" strike="noStrike">
                <a:solidFill>
                  <a:srgbClr val="04617b"/>
                </a:solidFill>
                <a:latin typeface="Arial"/>
              </a:rPr>
              <a:t>e.g. first data collec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ctions outstanding to either </a:t>
            </a:r>
            <a:r>
              <a:rPr b="1" lang="en-GB" sz="1800" spc="-1" strike="noStrike" u="sng">
                <a:solidFill>
                  <a:srgbClr val="4d4d4d"/>
                </a:solidFill>
                <a:uFillTx/>
                <a:latin typeface="Arial"/>
              </a:rPr>
              <a:t>complete audit cycle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or to </a:t>
            </a:r>
            <a:r>
              <a:rPr b="1" lang="en-GB" sz="1800" spc="-1" strike="noStrike" u="sng">
                <a:solidFill>
                  <a:srgbClr val="4d4d4d"/>
                </a:solidFill>
                <a:uFillTx/>
                <a:latin typeface="Arial"/>
              </a:rPr>
              <a:t>make audit revalidation ready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in next appraisal year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893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003893"/>
                </a:solidFill>
                <a:latin typeface="Arial"/>
              </a:rPr>
              <a:t>Resources</a:t>
            </a:r>
            <a:endParaRPr b="1" lang="en-US" sz="40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Benjamin, A. (2008) Audit: how to do it in practice. British Medical Journal 336:1241-5.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Healthcare Quality Improvement Partnership (HQIP): </a:t>
            </a:r>
            <a:br>
              <a:rPr sz="1600"/>
            </a:br>
            <a:r>
              <a:rPr b="1" lang="en-US" sz="1600" spc="-1" strike="noStrike" u="sng">
                <a:solidFill>
                  <a:srgbClr val="a00054"/>
                </a:solidFill>
                <a:uFillTx/>
                <a:latin typeface="Arial"/>
                <a:hlinkClick r:id="rId1"/>
              </a:rPr>
              <a:t>http://www.hqip.org.uk/clinical-audit-resources-3/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GMC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Good Medical practice; revalidation </a:t>
            </a:r>
            <a:r>
              <a:rPr b="1" lang="en-US" sz="1600" spc="-1" strike="noStrike" u="sng">
                <a:solidFill>
                  <a:srgbClr val="a00054"/>
                </a:solidFill>
                <a:uFillTx/>
                <a:latin typeface="Arial"/>
                <a:hlinkClick r:id="rId2"/>
              </a:rPr>
              <a:t>http://www.gmc-uk.org/doctors/revalidation/revalidation_gmp_framework.asp</a:t>
            </a:r>
            <a:br>
              <a:rPr sz="1600"/>
            </a:br>
            <a:r>
              <a:rPr b="1" lang="en-US" sz="1600" spc="-1" strike="noStrike" u="sng">
                <a:solidFill>
                  <a:srgbClr val="a00054"/>
                </a:solidFill>
                <a:uFillTx/>
                <a:latin typeface="Arial"/>
                <a:hlinkClick r:id="rId3"/>
              </a:rPr>
              <a:t>http://www.gmc-uk.org/doctors/revalidation.asp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RCGP - Resources for Revalidation; Clinical Audit 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Arial"/>
              </a:rPr>
              <a:t>http://www.rcgp.org.uk/revalidation.aspx</a:t>
            </a:r>
            <a:br>
              <a:rPr sz="1600"/>
            </a:br>
            <a:r>
              <a:rPr b="1" lang="en-US" sz="1600" spc="-1" strike="noStrike" u="sng">
                <a:solidFill>
                  <a:srgbClr val="4d4d4d"/>
                </a:solidFill>
                <a:uFillTx/>
                <a:latin typeface="Arial"/>
              </a:rPr>
              <a:t>http://www.rcgp.org.uk/clinical-and-research/clinical-resources/clinical-audit/audit-guidance.aspx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893"/>
                </a:solidFill>
                <a:latin typeface="Arial"/>
              </a:rPr>
              <a:t>Other Resources</a:t>
            </a:r>
            <a:endParaRPr b="1" lang="en-US" sz="4000" spc="-1" strike="noStrike">
              <a:solidFill>
                <a:srgbClr val="003893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94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National Association of Sessional GPs - </a:t>
            </a: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http://www.nasgp.org.uk/cpd/revalidation/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cottish Online Appraisal Resources - </a:t>
            </a: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http://www.scottishappraisal.scot.nhs.uk/toolkit.aspx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rimis Online Clinical Audit Lessons for GPs - </a:t>
            </a: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http://www.primis.nottingham.ac.uk/hub/course/</a:t>
            </a:r>
            <a:br>
              <a:rPr sz="2800"/>
            </a:b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21:06:21Z</dcterms:created>
  <dc:creator>nazqureshi1</dc:creator>
  <dc:description/>
  <dc:language>en-US</dc:language>
  <cp:lastModifiedBy>HALPERN, Helen</cp:lastModifiedBy>
  <dcterms:modified xsi:type="dcterms:W3CDTF">2014-04-03T09:41:05Z</dcterms:modified>
  <cp:revision>30</cp:revision>
  <dc:subject/>
  <dc:title>AUDIT</dc:title>
</cp:coreProperties>
</file>