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832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1"/>
          </p:nvPr>
        </p:nvSpPr>
        <p:spPr>
          <a:xfrm>
            <a:off x="38988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933120" y="752040"/>
            <a:ext cx="5016600" cy="37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2"/>
          </p:nvPr>
        </p:nvSpPr>
        <p:spPr>
          <a:xfrm>
            <a:off x="0" y="95295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"/>
          </p:nvPr>
        </p:nvSpPr>
        <p:spPr>
          <a:xfrm>
            <a:off x="3898800" y="95295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169-54C8-42B1-9429-0D50F8C34D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nd rules; confidentia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tual respec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ce breaker if necessary and tim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F5CB-C02B-4733-ABC6-E77651F638A2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t feedback and write on flipch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D55-6D77-45DA-B93D-23B5C0BAFF0B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e are some examples, may be more from the grou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CBAA-AACB-43B4-93F9-4CE68AAE22E8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might want to do this before your one to 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372B-3C86-4823-9F49-7EFDE054ED0C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might want to write up appraiser significant events before your one to 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CA6-E15B-428B-94E3-373F39B3461F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might want to think about you learning needs as an apprais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BEB1-50A2-4FD3-A2CD-F10F0C76E8D8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out appraiser competencies confidence tool for people to look at, and take away to study in more detail afterwar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952E-505C-4703-973A-C0AA817A72BE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438120" y="5925960"/>
            <a:ext cx="8277120" cy="506520"/>
            <a:chOff x="438120" y="5925960"/>
            <a:chExt cx="8277120" cy="506520"/>
          </a:xfrm>
        </p:grpSpPr>
        <p:sp>
          <p:nvSpPr>
            <p:cNvPr id="3" name="Rectangle 8"/>
            <p:cNvSpPr/>
            <p:nvPr/>
          </p:nvSpPr>
          <p:spPr>
            <a:xfrm>
              <a:off x="438120" y="5925960"/>
              <a:ext cx="8277120" cy="506520"/>
            </a:xfrm>
            <a:prstGeom prst="rect">
              <a:avLst/>
            </a:prstGeom>
            <a:solidFill>
              <a:srgbClr val="00a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" name="Picture 9" descr="LD_logo_white"/>
            <p:cNvPicPr/>
            <p:nvPr/>
          </p:nvPicPr>
          <p:blipFill>
            <a:blip r:embed="rId2"/>
            <a:stretch/>
          </p:blipFill>
          <p:spPr>
            <a:xfrm>
              <a:off x="544680" y="6013440"/>
              <a:ext cx="1366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0" descr="NHS_LDN_logo_allwhite"/>
            <p:cNvPicPr/>
            <p:nvPr/>
          </p:nvPicPr>
          <p:blipFill>
            <a:blip r:embed="rId3"/>
            <a:stretch/>
          </p:blipFill>
          <p:spPr>
            <a:xfrm>
              <a:off x="8148600" y="6033960"/>
              <a:ext cx="460440" cy="293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414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15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6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18" name="Round Same Side Corner Rectangle 16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19" name="Round Same Side Corner Rectangle 1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20" name="Picture 12" descr="R:\Depts\Communications\Marketing\Branding\Logo\SharedServices\HE &amp; LETBS\PNG\NHS-HE-&amp;-LETBs_all_white_inverse.PNG"/>
          <p:cNvPicPr/>
          <p:nvPr/>
        </p:nvPicPr>
        <p:blipFill>
          <a:blip r:embed="rId5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422" name="Rectangle 21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23" name="Picture 17" descr="R:\Depts\Communications\Marketing\Templates\Logo\Possible logos\SharedServices-logo-WHITE-INVERSE.png"/>
            <p:cNvPicPr/>
            <p:nvPr/>
          </p:nvPicPr>
          <p:blipFill>
            <a:blip r:embed="rId6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64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65" name="TextBox 9"/>
          <p:cNvSpPr/>
          <p:nvPr/>
        </p:nvSpPr>
        <p:spPr>
          <a:xfrm>
            <a:off x="3851280" y="610884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66" name="Round Same Side Corner Rectangle 7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67" name="Round Same Side Corner Rectangle 8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68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470" name="Rectangle 13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71" name="Picture 17" descr="R:\Depts\Communications\Marketing\Templates\Logo\Possible logos\SharedServices-logo-WHITE-INVERSE.png"/>
            <p:cNvPicPr/>
            <p:nvPr/>
          </p:nvPicPr>
          <p:blipFill>
            <a:blip r:embed="rId5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8" name="Picture 8" descr="LD_logo_white"/>
          <p:cNvPicPr/>
          <p:nvPr/>
        </p:nvPicPr>
        <p:blipFill>
          <a:blip r:embed="rId2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NHS_LDN_logo_allwhite"/>
          <p:cNvPicPr/>
          <p:nvPr/>
        </p:nvPicPr>
        <p:blipFill>
          <a:blip r:embed="rId3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91" name="Picture 7" descr="NHS_LDN_logo_allwhite"/>
          <p:cNvPicPr/>
          <p:nvPr/>
        </p:nvPicPr>
        <p:blipFill>
          <a:blip r:embed="rId2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93" name="Picture 9" descr="LD_logo_white"/>
          <p:cNvPicPr/>
          <p:nvPr/>
        </p:nvPicPr>
        <p:blipFill>
          <a:blip r:embed="rId3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adc6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3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3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520560" y="674640"/>
            <a:ext cx="992160" cy="248040"/>
            <a:chOff x="520560" y="674640"/>
            <a:chExt cx="992160" cy="248040"/>
          </a:xfrm>
        </p:grpSpPr>
        <p:sp>
          <p:nvSpPr>
            <p:cNvPr id="135" name="Rectangle 13"/>
            <p:cNvSpPr/>
            <p:nvPr/>
          </p:nvSpPr>
          <p:spPr>
            <a:xfrm>
              <a:off x="866880" y="78408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136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520560" y="67464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R:\Depts\Communications\Marketing\Branding\Logo\NHS\NHS-Constitution-logo.png"/>
          <p:cNvPicPr/>
          <p:nvPr/>
        </p:nvPicPr>
        <p:blipFill>
          <a:blip r:embed="rId5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179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180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adc6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21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22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223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R:\Depts\Communications\Marketing\Branding\Logo\NHS\NHS-Constitution-logo.png"/>
          <p:cNvPicPr/>
          <p:nvPr/>
        </p:nvPicPr>
        <p:blipFill>
          <a:blip r:embed="rId4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9"/>
          <p:cNvSpPr/>
          <p:nvPr/>
        </p:nvSpPr>
        <p:spPr>
          <a:xfrm>
            <a:off x="520560" y="657360"/>
            <a:ext cx="210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0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5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3851280" y="610884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33440" y="431640"/>
            <a:ext cx="4102200" cy="10796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33440" y="1622520"/>
            <a:ext cx="4102200" cy="3238560"/>
          </a:xfrm>
          <a:prstGeom prst="rect">
            <a:avLst/>
          </a:prstGeom>
          <a:solidFill>
            <a:srgbClr val="0072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06" name="Picture 6" descr="LD_logo_white"/>
          <p:cNvPicPr/>
          <p:nvPr/>
        </p:nvPicPr>
        <p:blipFill>
          <a:blip r:embed="rId2"/>
          <a:stretch/>
        </p:blipFill>
        <p:spPr>
          <a:xfrm>
            <a:off x="539640" y="519120"/>
            <a:ext cx="1960560" cy="311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NHS_LDN_logo_black"/>
          <p:cNvPicPr/>
          <p:nvPr/>
        </p:nvPicPr>
        <p:blipFill>
          <a:blip r:embed="rId3"/>
          <a:stretch/>
        </p:blipFill>
        <p:spPr>
          <a:xfrm>
            <a:off x="8088480" y="6027840"/>
            <a:ext cx="630000" cy="40464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8"/>
          <p:cNvGrpSpPr/>
          <p:nvPr/>
        </p:nvGrpSpPr>
        <p:grpSpPr>
          <a:xfrm>
            <a:off x="2944800" y="4321080"/>
            <a:ext cx="1482480" cy="431640"/>
            <a:chOff x="2944800" y="4321080"/>
            <a:chExt cx="1482480" cy="431640"/>
          </a:xfrm>
        </p:grpSpPr>
        <p:sp>
          <p:nvSpPr>
            <p:cNvPr id="309" name="AutoShape 9"/>
            <p:cNvSpPr/>
            <p:nvPr/>
          </p:nvSpPr>
          <p:spPr>
            <a:xfrm>
              <a:off x="381456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0" name="AutoShape 10"/>
            <p:cNvSpPr/>
            <p:nvPr/>
          </p:nvSpPr>
          <p:spPr>
            <a:xfrm>
              <a:off x="395892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1" name="AutoShape 11"/>
            <p:cNvSpPr/>
            <p:nvPr/>
          </p:nvSpPr>
          <p:spPr>
            <a:xfrm>
              <a:off x="41036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2" name="AutoShape 12"/>
            <p:cNvSpPr/>
            <p:nvPr/>
          </p:nvSpPr>
          <p:spPr>
            <a:xfrm>
              <a:off x="42480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3" name="AutoShape 13"/>
            <p:cNvSpPr/>
            <p:nvPr/>
          </p:nvSpPr>
          <p:spPr>
            <a:xfrm>
              <a:off x="36702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4" name="AutoShape 14"/>
            <p:cNvSpPr/>
            <p:nvPr/>
          </p:nvSpPr>
          <p:spPr>
            <a:xfrm>
              <a:off x="35240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5" name="AutoShape 15"/>
            <p:cNvSpPr/>
            <p:nvPr/>
          </p:nvSpPr>
          <p:spPr>
            <a:xfrm>
              <a:off x="337968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6" name="AutoShape 16"/>
            <p:cNvSpPr/>
            <p:nvPr/>
          </p:nvSpPr>
          <p:spPr>
            <a:xfrm>
              <a:off x="323532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7" name="AutoShape 17"/>
            <p:cNvSpPr/>
            <p:nvPr/>
          </p:nvSpPr>
          <p:spPr>
            <a:xfrm>
              <a:off x="309060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8" name="AutoShape 18"/>
            <p:cNvSpPr/>
            <p:nvPr/>
          </p:nvSpPr>
          <p:spPr>
            <a:xfrm>
              <a:off x="29448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</p:grpSp>
      <p:sp>
        <p:nvSpPr>
          <p:cNvPr id="319" name="Text Box 19"/>
          <p:cNvSpPr/>
          <p:nvPr/>
        </p:nvSpPr>
        <p:spPr>
          <a:xfrm>
            <a:off x="539640" y="4611600"/>
            <a:ext cx="286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www.londondeanery.ac.uk</a:t>
            </a:r>
            <a:endParaRPr b="0" lang="en-US" sz="9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433440" y="431640"/>
            <a:ext cx="4102200" cy="107964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33440" y="1622520"/>
            <a:ext cx="4102200" cy="3238560"/>
          </a:xfrm>
          <a:prstGeom prst="rect">
            <a:avLst/>
          </a:prstGeom>
          <a:solidFill>
            <a:srgbClr val="00ad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60" name="Picture 6" descr="LD_logo_white"/>
          <p:cNvPicPr/>
          <p:nvPr/>
        </p:nvPicPr>
        <p:blipFill>
          <a:blip r:embed="rId2"/>
          <a:stretch/>
        </p:blipFill>
        <p:spPr>
          <a:xfrm>
            <a:off x="539640" y="519120"/>
            <a:ext cx="1960560" cy="31104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7"/>
          <p:cNvGrpSpPr/>
          <p:nvPr/>
        </p:nvGrpSpPr>
        <p:grpSpPr>
          <a:xfrm>
            <a:off x="2944800" y="4321080"/>
            <a:ext cx="1482480" cy="431640"/>
            <a:chOff x="2944800" y="4321080"/>
            <a:chExt cx="1482480" cy="431640"/>
          </a:xfrm>
        </p:grpSpPr>
        <p:sp>
          <p:nvSpPr>
            <p:cNvPr id="362" name="AutoShape 8"/>
            <p:cNvSpPr/>
            <p:nvPr/>
          </p:nvSpPr>
          <p:spPr>
            <a:xfrm>
              <a:off x="381456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395892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4" name="AutoShape 10"/>
            <p:cNvSpPr/>
            <p:nvPr/>
          </p:nvSpPr>
          <p:spPr>
            <a:xfrm>
              <a:off x="41036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5" name="AutoShape 11"/>
            <p:cNvSpPr/>
            <p:nvPr/>
          </p:nvSpPr>
          <p:spPr>
            <a:xfrm>
              <a:off x="42480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6" name="AutoShape 12"/>
            <p:cNvSpPr/>
            <p:nvPr/>
          </p:nvSpPr>
          <p:spPr>
            <a:xfrm>
              <a:off x="36702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7" name="AutoShape 13"/>
            <p:cNvSpPr/>
            <p:nvPr/>
          </p:nvSpPr>
          <p:spPr>
            <a:xfrm>
              <a:off x="35240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8" name="AutoShape 14"/>
            <p:cNvSpPr/>
            <p:nvPr/>
          </p:nvSpPr>
          <p:spPr>
            <a:xfrm>
              <a:off x="337968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9" name="AutoShape 15"/>
            <p:cNvSpPr/>
            <p:nvPr/>
          </p:nvSpPr>
          <p:spPr>
            <a:xfrm>
              <a:off x="323532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70" name="AutoShape 16"/>
            <p:cNvSpPr/>
            <p:nvPr/>
          </p:nvSpPr>
          <p:spPr>
            <a:xfrm>
              <a:off x="309060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29448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</p:grpSp>
      <p:sp>
        <p:nvSpPr>
          <p:cNvPr id="372" name="Text Box 18"/>
          <p:cNvSpPr/>
          <p:nvPr/>
        </p:nvSpPr>
        <p:spPr>
          <a:xfrm>
            <a:off x="539640" y="4611600"/>
            <a:ext cx="286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www.londondeanery.ac.uk</a:t>
            </a:r>
            <a:endParaRPr b="0" lang="en-US" sz="9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73" name="Picture 19" descr="NHS_LDN_logo_white"/>
          <p:cNvPicPr/>
          <p:nvPr/>
        </p:nvPicPr>
        <p:blipFill>
          <a:blip r:embed="rId3"/>
          <a:stretch/>
        </p:blipFill>
        <p:spPr>
          <a:xfrm>
            <a:off x="8088480" y="6029280"/>
            <a:ext cx="630000" cy="4032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598400"/>
            <a:ext cx="374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veloping as a Professional Appraiser: making the most of your one to one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539640" y="3068640"/>
            <a:ext cx="38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ppraiser Personal Development Plan Topic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38120" y="836280"/>
            <a:ext cx="82771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A few examples: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Providing appropriate challenge to the doctors you appraise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Eliciting and receiving feedback (e.g. audio tape review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Efficient administration - log dates of contacts and submission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Participation in appraiser support group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Leading part of an appraiser support group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Feedback and Reflection form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d4d4d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8120" y="115560"/>
            <a:ext cx="82771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What do you want from your 1 to 1?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0520" y="1599840"/>
            <a:ext cx="82774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Discuss in groups of three what you would like from a 1 to 1 meeting with your appraisal lead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(Five minute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592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What do you want from your 1 to 1? 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0520" y="1052640"/>
            <a:ext cx="82774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Explore difficult appraisal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Think about what areas to develop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iscuss significant event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Consider feedback from doctors you have appraised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Be reassured 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Gain a sense of team membership and team loyalt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iscuss new developments in appraisal and revalidation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Get feedback on your written summary of discussion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ppraiser Learning Need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8000" y="2824200"/>
            <a:ext cx="84186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How do you identify your learning needs as an appraiser?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8120" y="44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ppraisal Significant Event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38120" y="1052640"/>
            <a:ext cx="82771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Support for appraisers may include: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•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Access to leadership and advice on all aspects of the appraisal process from a named individual e.g. the appraisal lead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•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Access to training and professional development resources to develop appraiser skill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•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Peer support and discussion of difficult areas of appraisal and significant events in an anonymised and confidential environmen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Title 1"/>
          <p:cNvSpPr/>
          <p:nvPr/>
        </p:nvSpPr>
        <p:spPr>
          <a:xfrm>
            <a:off x="903240" y="498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Tools for identifying your learning need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38120" y="1142640"/>
            <a:ext cx="827712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flective lo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Feedback from doctors you have appraised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Peer/Observer feedback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Multi-source feedback 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Appraiser significant events or case studie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octor’s Unmet  Needs + Appraiser’s Educational Needs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Audit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Training sessions e.g. education theory, work with actors                                                               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Using a competency confidence too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Using the one to one itself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6688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Appraiser competencie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893"/>
                </a:solidFill>
                <a:latin typeface="Arial"/>
              </a:rPr>
              <a:t>How could you provide supporting evidence to show improvement in these competencies in the next year?</a:t>
            </a:r>
            <a:br>
              <a:rPr sz="2400"/>
            </a:br>
            <a:endParaRPr b="1" lang="en-US" sz="24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893"/>
                </a:solidFill>
                <a:latin typeface="Arial"/>
              </a:rPr>
              <a:t>How could you provide supporting evidence to show an improvement in these competencies in the next year?</a:t>
            </a:r>
            <a:br>
              <a:rPr sz="2400"/>
            </a:br>
            <a:endParaRPr b="1" lang="en-US" sz="24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38120" y="1052640"/>
            <a:ext cx="82771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outinely elicit feedback from doctors you apprais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Audit your management skills e.g. administration and  the time it  takes you to write the appraisal summar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Trial the use of  a pro-forma when reading  appraisal documentation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Self or peer review your summary of appraisal document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flect on appraisal significant events and demonstrate a chang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Contribute to the appraiser support group e.g. facilitate small group work or role play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Start up an appraiser support group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0:58:30Z</dcterms:created>
  <dc:creator>linda.miller</dc:creator>
  <dc:description/>
  <dc:language>en-US</dc:language>
  <cp:lastModifiedBy>HALPERN, Helen</cp:lastModifiedBy>
  <dcterms:modified xsi:type="dcterms:W3CDTF">2014-04-11T17:09:36Z</dcterms:modified>
  <cp:revision>32</cp:revision>
  <dc:subject/>
  <dc:title>MAIN TITLE OF PRESENTATION GOES HERE</dc:title>
</cp:coreProperties>
</file>