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"/>
          </p:nvPr>
        </p:nvSpPr>
        <p:spPr>
          <a:xfrm>
            <a:off x="3774960" y="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851040" y="71604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66720" y="474624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2"/>
          </p:nvPr>
        </p:nvSpPr>
        <p:spPr>
          <a:xfrm>
            <a:off x="-360" y="942984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3"/>
          </p:nvPr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C0766DC-512B-4BF3-ADB7-F33B97A6FD56}" type="slidenum">
              <a:rPr b="0" lang="en-GB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CAB9299-E579-45CE-99D9-1101FCD69615}" type="slidenum">
              <a:rPr b="0" lang="en-GB" sz="1100" spc="-1" strike="noStrike">
                <a:solidFill>
                  <a:srgbClr val="003893"/>
                </a:solidFill>
                <a:latin typeface="Calibri"/>
              </a:rPr>
              <a:t>&lt;number&gt;</a:t>
            </a:fld>
            <a:endParaRPr b="1" lang="en-US" sz="11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51040" y="716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720" y="474624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Housekeeping , fire alarms, toilets break, end time.</a:t>
            </a:r>
            <a:endParaRPr b="1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Ground rules.</a:t>
            </a:r>
            <a:endParaRPr b="1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Optional  Ice breaker and /or –elicit learning aims of participants for the session </a:t>
            </a:r>
            <a:endParaRPr b="1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hat do they want by the end of the session-capture.</a:t>
            </a:r>
            <a:endParaRPr b="1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339E983-C2DA-4CFE-B4F2-507BCB1120E1}" type="slidenum">
              <a:rPr b="0" lang="en-GB" sz="1100" spc="-1" strike="noStrike">
                <a:solidFill>
                  <a:srgbClr val="003893"/>
                </a:solidFill>
                <a:latin typeface="Calibri"/>
              </a:rPr>
              <a:t>&lt;number&gt;</a:t>
            </a:fld>
            <a:endParaRPr b="1" lang="en-US" sz="11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51040" y="716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6720" y="474624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ORMATTING TEX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ere are five levels of text formatting built into the template: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Heading style which is bold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Body copy style regular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st level bulle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econd level bulle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rd level bulle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o use these styles, select the text and press the TAB key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emote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to the next level down.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ess the SHIFT and TAB keys together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omote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the selected text to the previous level.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51040" y="716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720" y="474624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exercise will need about 30 minutes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15E99DF-2A4A-4158-BDAE-3E26C3914431}" type="slidenum">
              <a:rPr b="0" lang="en-GB" sz="1100" spc="-1" strike="noStrike">
                <a:solidFill>
                  <a:srgbClr val="003893"/>
                </a:solidFill>
                <a:latin typeface="Calibri"/>
              </a:rPr>
              <a:t>&lt;number&gt;</a:t>
            </a:fld>
            <a:endParaRPr b="1" lang="en-US" sz="1100" spc="-1" strike="noStrike">
              <a:solidFill>
                <a:srgbClr val="003893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1040" y="716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720" y="474624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visit learning needs identified at the beginning of the session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EF0D7D2-8A89-447B-B9A0-909961A98839}" type="slidenum">
              <a:rPr b="0" lang="en-GB" sz="1100" spc="-1" strike="noStrike">
                <a:solidFill>
                  <a:srgbClr val="003893"/>
                </a:solidFill>
                <a:latin typeface="Calibri"/>
              </a:rPr>
              <a:t>&lt;number&gt;</a:t>
            </a:fld>
            <a:endParaRPr b="1" lang="en-US" sz="1100" spc="-1" strike="noStrike">
              <a:solidFill>
                <a:srgbClr val="003893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51040" y="716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720" y="474624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Capture on flip char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0CCE6DF-91E1-4613-8764-DC7D8FC3D87C}" type="slidenum">
              <a:rPr b="0" lang="en-GB" sz="1100" spc="-1" strike="noStrike">
                <a:solidFill>
                  <a:srgbClr val="003893"/>
                </a:solidFill>
                <a:latin typeface="Calibri"/>
              </a:rPr>
              <a:t>&lt;number&gt;</a:t>
            </a:fld>
            <a:endParaRPr b="1" lang="en-US" sz="1100" spc="-1" strike="noStrike">
              <a:solidFill>
                <a:srgbClr val="003893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D4776DA-95C7-415A-B5D1-B02F3C45811B}" type="slidenum">
              <a:rPr b="0" lang="en-GB" sz="1100" spc="-1" strike="noStrike">
                <a:solidFill>
                  <a:srgbClr val="003893"/>
                </a:solidFill>
                <a:latin typeface="Calibri"/>
              </a:rPr>
              <a:t>&lt;number&gt;</a:t>
            </a:fld>
            <a:endParaRPr b="1" lang="en-US" sz="11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1040" y="716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720" y="474624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ORMATTING TEX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ere are five levels of text formatting built into the template: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Heading style which is bold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Body copy style regular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st level bulle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econd level bulle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rd level bulle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o use these styles, select the text and press the TAB key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emote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to the next level down.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ess the SHIFT and TAB keys together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omote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the selected text to the previous level.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FB7A9D0-0F81-4011-A750-D00E0FD64A31}" type="slidenum">
              <a:rPr b="0" lang="en-GB" sz="1100" spc="-1" strike="noStrike">
                <a:solidFill>
                  <a:srgbClr val="003893"/>
                </a:solidFill>
                <a:latin typeface="Calibri"/>
              </a:rPr>
              <a:t>&lt;number&gt;</a:t>
            </a:fld>
            <a:endParaRPr b="1" lang="en-US" sz="11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1040" y="716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720" y="474624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ORMATTING TEX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ere are five levels of text formatting built into the template: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Heading style which is bold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Body copy style regular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st level bulle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econd level bulle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rd level bulle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o use these styles, select the text and press the TAB key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emote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to the next level down.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ess the SHIFT and TAB keys together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omote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the selected text to the previous level.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6DD2AD4-4ABE-4E11-95EC-92EE6FF76679}" type="slidenum">
              <a:rPr b="0" lang="en-GB" sz="1100" spc="-1" strike="noStrike">
                <a:solidFill>
                  <a:srgbClr val="003893"/>
                </a:solidFill>
                <a:latin typeface="Calibri"/>
              </a:rPr>
              <a:t>&lt;number&gt;</a:t>
            </a:fld>
            <a:endParaRPr b="1" lang="en-US" sz="11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51040" y="716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720" y="474624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ORMATTING TEX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ere are five levels of text formatting built into the template: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Heading style which is bold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Body copy style regular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st level bulle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econd level bulle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rd level bulle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o use these styles, select the text and press the TAB key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emote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to the next level down.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ess the SHIFT and TAB keys together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omote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the selected text to the previous level.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New GMP 2012 yet to be in final version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R:\Depts\Communications\Marketing\Branding\HEE graphic elements\Rectangle box\PNG format\Rec-Boxed-bracket---WHITE-INVERSE-left-aligned.png"/>
          <p:cNvPicPr/>
          <p:nvPr/>
        </p:nvPicPr>
        <p:blipFill>
          <a:blip r:embed="rId2"/>
          <a:stretch/>
        </p:blipFill>
        <p:spPr>
          <a:xfrm>
            <a:off x="144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TextBox 9"/>
          <p:cNvSpPr/>
          <p:nvPr/>
        </p:nvSpPr>
        <p:spPr>
          <a:xfrm>
            <a:off x="3387600" y="6165720"/>
            <a:ext cx="56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893"/>
                </a:solidFill>
                <a:latin typeface="Frutiger Neue LT Pro Regular"/>
              </a:rPr>
              <a:t>Developing people for health and healthcare</a:t>
            </a:r>
            <a:endParaRPr b="1" lang="en-US" sz="14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2" name="Round Same Side Corner Rectangle 7"/>
          <p:cNvSpPr/>
          <p:nvPr/>
        </p:nvSpPr>
        <p:spPr>
          <a:xfrm>
            <a:off x="395280" y="51768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3" name="Round Same Side Corner Rectangle 37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  <p:pic>
        <p:nvPicPr>
          <p:cNvPr id="4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3059280" y="674640"/>
            <a:ext cx="1384200" cy="574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R:\Depts\Communications\Marketing\Branding\Logo\NHS\NHS-Constitution-logo.png"/>
          <p:cNvPicPr/>
          <p:nvPr/>
        </p:nvPicPr>
        <p:blipFill>
          <a:blip r:embed="rId4"/>
          <a:stretch/>
        </p:blipFill>
        <p:spPr>
          <a:xfrm>
            <a:off x="250920" y="6114960"/>
            <a:ext cx="622080" cy="622440"/>
          </a:xfrm>
          <a:prstGeom prst="rect">
            <a:avLst/>
          </a:prstGeom>
          <a:ln w="0">
            <a:noFill/>
          </a:ln>
        </p:spPr>
      </p:pic>
      <p:sp>
        <p:nvSpPr>
          <p:cNvPr id="6" name="TextBox 9"/>
          <p:cNvSpPr/>
          <p:nvPr/>
        </p:nvSpPr>
        <p:spPr>
          <a:xfrm>
            <a:off x="561960" y="652320"/>
            <a:ext cx="2160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b6d2ff"/>
                </a:solidFill>
                <a:latin typeface="Frutiger Neue LT Pro Regular"/>
              </a:rPr>
              <a:t>Appraisal and Revalidation</a:t>
            </a:r>
            <a:endParaRPr b="1" lang="en-US" sz="1300" spc="-1" strike="noStrike">
              <a:solidFill>
                <a:srgbClr val="00389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47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</a:rPr>
              <a:t>Developing people for health and healthcare</a:t>
            </a:r>
            <a:endParaRPr b="1" lang="en-US" sz="12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3780000" y="6235560"/>
            <a:ext cx="2160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b6d2ff"/>
                </a:solidFill>
                <a:latin typeface="Frutiger Neue LT Pro Regular"/>
              </a:rPr>
              <a:t>Appraisal and Revalidation</a:t>
            </a:r>
            <a:endParaRPr b="1" lang="en-US" sz="1300" spc="-1" strike="noStrike">
              <a:solidFill>
                <a:srgbClr val="00389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</a:rPr>
              <a:t>Developing people for health and healthcare</a:t>
            </a:r>
            <a:endParaRPr b="1" lang="en-US" sz="12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780000" y="6235560"/>
            <a:ext cx="2160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b6d2ff"/>
                </a:solidFill>
                <a:latin typeface="Frutiger Neue LT Pro Regular"/>
              </a:rPr>
              <a:t>Appraisal and Revalidation</a:t>
            </a:r>
            <a:endParaRPr b="1" lang="en-US" sz="13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89" name="Round Same Side Corner Rectangle 7"/>
          <p:cNvSpPr/>
          <p:nvPr/>
        </p:nvSpPr>
        <p:spPr>
          <a:xfrm>
            <a:off x="395280" y="51120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90" name="Round Same Side Corner Rectangle 8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  <p:pic>
        <p:nvPicPr>
          <p:cNvPr id="91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3059280" y="692280"/>
            <a:ext cx="1384200" cy="57456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539640" y="692280"/>
            <a:ext cx="2160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b6d2ff"/>
                </a:solidFill>
                <a:latin typeface="Frutiger Neue LT Pro Regular"/>
              </a:rPr>
              <a:t>Appraisal and Revalidation</a:t>
            </a:r>
            <a:endParaRPr b="1" lang="en-US" sz="13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131920"/>
            <a:ext cx="3898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2f2f2"/>
                </a:solidFill>
                <a:latin typeface="Arial"/>
                <a:ea typeface="Arial"/>
              </a:rPr>
              <a:t>Delivering Effective Multisource Feedback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3440" y="549000"/>
            <a:ext cx="82771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893"/>
                </a:solidFill>
                <a:latin typeface="Arial"/>
                <a:ea typeface="Arial"/>
              </a:rPr>
              <a:t>Pendleton’s Rules</a:t>
            </a:r>
            <a:endParaRPr b="1" lang="en-US" sz="3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360" y="141264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Clarify any issues of fac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Ask the learner to clarify what went well and wh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Ask the group to discuss what went well and wh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Ask the learner to comment on what went less well and what could have been done differently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Discuss what could be done differently within group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893"/>
                </a:solidFill>
                <a:latin typeface="Arial"/>
                <a:ea typeface="Arial"/>
              </a:rPr>
              <a:t>Principles of agenda led outcomes based analysis I – Silverman et al </a:t>
            </a:r>
            <a:endParaRPr b="1" lang="en-US" sz="3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Start with the learner’s 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Look at the outcomes the learner is trying to achiev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Encourage self assessment and problem solving firs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    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(Involve the group in problem solving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  <a:ea typeface="Arial"/>
              </a:rPr>
              <a:t>Principles of agenda led outcomes based analysis II – Silverman et al 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Use descriptive feedback to encourage a non-judgemental approach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Provide balanced feedbac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Make offers and suggestions ( Rehearse suggestions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893"/>
                </a:solidFill>
                <a:latin typeface="Arial"/>
                <a:ea typeface="Arial"/>
              </a:rPr>
              <a:t>Discussion of MSF</a:t>
            </a:r>
            <a:endParaRPr b="1" lang="en-US" sz="3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628280"/>
            <a:ext cx="82771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What areas of practice were highlighted as the doctor’s main strengths/ areas for improvement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Did a similar message arise from both surveys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What additional information is there in the free text comments?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To what extent does the appraisee’s self assessment match the rating and comments from patients and colleagues?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893"/>
                </a:solidFill>
                <a:latin typeface="Arial"/>
                <a:ea typeface="Arial"/>
              </a:rPr>
              <a:t>Managing discussion about identified areas of weakness</a:t>
            </a:r>
            <a:endParaRPr b="1" lang="en-US" sz="3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1844280"/>
            <a:ext cx="82771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Discuss the feasibility of chang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Define SMART goals in relation to any change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Signpost to resources e.g. mentoring, self- directed learning activities, online learning, health resource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Discuss how progress will be reviewed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Exercise – skills practice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1052280"/>
            <a:ext cx="8350200" cy="50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Work in pairs: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Read the example of multisource feedback given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(different pairs can use different examples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Decide who will role-play the appraiser and appraisee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The appraiser will discuss the feedback in the example with the appraisee (15 minutes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The appraisee gives feedback to the appraiser about their skills in this area (5 minutes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893"/>
                </a:solidFill>
                <a:latin typeface="Arial"/>
                <a:ea typeface="Arial"/>
              </a:rPr>
              <a:t>Plenary</a:t>
            </a:r>
            <a:br>
              <a:rPr sz="2800"/>
            </a:b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Review aims and learning objectives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Feedbac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Reflective writi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4d4d4d"/>
                </a:solidFill>
                <a:latin typeface="Arial"/>
                <a:ea typeface="Arial"/>
              </a:rPr>
              <a:t>Thank you</a:t>
            </a:r>
            <a:endParaRPr b="1" lang="en-US" sz="5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893"/>
                </a:solidFill>
                <a:latin typeface="Arial"/>
                <a:ea typeface="Arial"/>
              </a:rPr>
              <a:t>Aim of this session</a:t>
            </a:r>
            <a:endParaRPr b="1" lang="en-US" sz="3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To review multisource feedback effectivel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771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Intended Learning outcomes</a:t>
            </a:r>
            <a:br>
              <a:rPr sz="2800"/>
            </a:b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5280" y="1341360"/>
            <a:ext cx="82771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By the end of this session you should be able to: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Describe and use some feedback mode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Formulate positive and constructive feedback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Assess how you can develop your feedback skil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Learning needs?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What do you already know about delivering multisource feedback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What are your hopes from this session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The value of multisource feedback in appraisal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Feedback can be used as a tool for reflecting on practice and identifying ways to improve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Identified development needs can be incorporated into the Personal Development Pla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The appraiser can use feedback to help the appraisee recognise strengths and value their achievement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93"/>
                </a:solidFill>
                <a:latin typeface="Arial"/>
                <a:ea typeface="Arial"/>
              </a:rPr>
              <a:t>Principles of good feedback I</a:t>
            </a:r>
            <a:endParaRPr b="1" lang="en-US" sz="3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84280"/>
            <a:ext cx="82296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Helps clarify what constitutes good performanc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Facilitates the development of reflection in learni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Delivers high quality information about learni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2349360" y="17146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3440" y="549000"/>
            <a:ext cx="82771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  <a:ea typeface="Arial"/>
              </a:rPr>
              <a:t>Principles of good feedback II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484280"/>
            <a:ext cx="8229600" cy="42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Encourages teacher and peer dialogue around learni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Encourages positive motivational beliefs and self esteem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Provides opportunities to close the gap between current and desired performanc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Adapted from Nicol and Macfarlane Dick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93"/>
                </a:solidFill>
                <a:latin typeface="Arial"/>
                <a:ea typeface="Arial"/>
              </a:rPr>
              <a:t>Principles of good feedback III</a:t>
            </a:r>
            <a:endParaRPr b="1" lang="en-US" sz="3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8120" y="1196640"/>
            <a:ext cx="82771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Stick to facts and avoid becoming emotional or using emotional languag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For example: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For a doctor with low communications skills score: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What are your thoughts on why you have scored below average in communication skills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3440" y="549000"/>
            <a:ext cx="82771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893"/>
                </a:solidFill>
                <a:latin typeface="Arial"/>
                <a:ea typeface="Arial"/>
              </a:rPr>
              <a:t>Feedback models</a:t>
            </a:r>
            <a:endParaRPr b="1" lang="en-US" sz="3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8360" y="1484280"/>
            <a:ext cx="822960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Arial"/>
              </a:rPr>
              <a:t>What feedback models are you aware of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4:50:37Z</dcterms:created>
  <dc:creator>Professional Development</dc:creator>
  <dc:description/>
  <dc:language>en-US</dc:language>
  <cp:lastModifiedBy>HALPERN, Helen</cp:lastModifiedBy>
  <dcterms:modified xsi:type="dcterms:W3CDTF">2014-04-03T12:24:29Z</dcterms:modified>
  <cp:revision>1019</cp:revision>
  <dc:subject/>
  <dc:title>Top Up Training for Revalidation</dc:title>
</cp:coreProperties>
</file>