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10033000" cy="6883400"/>
</p:presentation>
</file>

<file path=ppt/commentAuthors.xml><?xml version="1.0" encoding="utf-8"?>
<p:cmAuthorLst xmlns:p="http://schemas.openxmlformats.org/presentationml/2006/main">
  <p:cmAuthor id="0" name="HALPERN, Helen" initials="H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3-06-27T15:35:15.667000000" idx="1">
    <p:pos x="10" y="10"/>
    <p:text>Suggest remove the reference to hegemony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10033200" cy="688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48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"/>
          </p:nvPr>
        </p:nvSpPr>
        <p:spPr>
          <a:xfrm>
            <a:off x="5683320" y="-360"/>
            <a:ext cx="4348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2"/>
          </p:nvPr>
        </p:nvSpPr>
        <p:spPr>
          <a:xfrm>
            <a:off x="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3"/>
          </p:nvPr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E09B-D803-44BC-8957-47A39BA31D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ound rules: confidentiality, mutual respe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26E0-1FAB-4EDA-A07F-0BB20A531D85}" type="slidenum">
              <a:rPr b="0" lang="en-GB" sz="1200" spc="-1" strike="noStrike">
                <a:solidFill>
                  <a:srgbClr val="0038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,  3.2,3.3,3.4,3.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 4.3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12B3-262F-4689-B79B-E6ACFC28E5A7}" type="slidenum">
              <a:rPr b="0" lang="en-GB" sz="1200" spc="-1" strike="noStrike">
                <a:solidFill>
                  <a:srgbClr val="0038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08FC-F7C1-4A10-A8D0-89452F121DE1}" type="slidenum">
              <a:rPr b="0" lang="en-GB" sz="1200" spc="-1" strike="noStrike">
                <a:solidFill>
                  <a:srgbClr val="0038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rite up list generated by the grou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1511-54D1-4415-9951-28BCD3BF7F89}" type="slidenum">
              <a:rPr b="0" lang="en-GB" sz="1200" spc="-1" strike="noStrike">
                <a:solidFill>
                  <a:srgbClr val="0038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A206-FCDC-4363-BCC9-5128991F88F8}" type="slidenum">
              <a:rPr b="0" lang="en-GB" sz="1200" spc="-1" strike="noStrike">
                <a:solidFill>
                  <a:srgbClr val="0038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6F82-F85E-4B48-8A5C-CA344AE38EF1}" type="slidenum">
              <a:rPr b="0" lang="en-GB" sz="1200" spc="-1" strike="noStrike">
                <a:solidFill>
                  <a:srgbClr val="0038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 back to the list generated by the grou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B160-9F51-4E56-90B6-376947F860CF}" type="slidenum">
              <a:rPr b="0" lang="en-GB" sz="1200" spc="-1" strike="noStrike">
                <a:solidFill>
                  <a:srgbClr val="0038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.1,  1.2,   1.3    , 1.4, 2.1,2.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2143-9F1C-4B9D-A527-03566AD817BE}" type="slidenum">
              <a:rPr b="0" lang="en-GB" sz="1200" spc="-1" strike="noStrike">
                <a:solidFill>
                  <a:srgbClr val="0038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R:\Depts\Communications\Marketing\Branding\HEE graphic elements\Rectangle box\PNG format\Rec-Boxed-bracket---WHITE-INVERSE-left-aligned.png"/>
          <p:cNvPicPr/>
          <p:nvPr/>
        </p:nvPicPr>
        <p:blipFill>
          <a:blip r:embed="rId2"/>
          <a:stretch/>
        </p:blipFill>
        <p:spPr>
          <a:xfrm>
            <a:off x="144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TextBox 9"/>
          <p:cNvSpPr/>
          <p:nvPr/>
        </p:nvSpPr>
        <p:spPr>
          <a:xfrm>
            <a:off x="3387600" y="6165720"/>
            <a:ext cx="56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3893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4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" name="Round Same Side Corner Rectangle 7"/>
          <p:cNvSpPr/>
          <p:nvPr/>
        </p:nvSpPr>
        <p:spPr>
          <a:xfrm>
            <a:off x="395280" y="517680"/>
            <a:ext cx="4194360" cy="895320"/>
          </a:xfrm>
          <a:custGeom>
            <a:avLst/>
            <a:gdLst/>
            <a:ahLst/>
            <a:rect l="l" t="t" r="r" b="b"/>
            <a:pathLst>
              <a:path w="4194175" h="895350">
                <a:moveTo>
                  <a:pt x="149228" y="0"/>
                </a:moveTo>
                <a:lnTo>
                  <a:pt x="4044947" y="0"/>
                </a:lnTo>
                <a:cubicBezTo>
                  <a:pt x="4127363" y="0"/>
                  <a:pt x="4194175" y="66812"/>
                  <a:pt x="4194175" y="149228"/>
                </a:cubicBezTo>
                <a:lnTo>
                  <a:pt x="4194175" y="895350"/>
                </a:lnTo>
                <a:lnTo>
                  <a:pt x="4194175" y="895350"/>
                </a:lnTo>
                <a:lnTo>
                  <a:pt x="0" y="895350"/>
                </a:lnTo>
                <a:lnTo>
                  <a:pt x="0" y="895350"/>
                </a:lnTo>
                <a:lnTo>
                  <a:pt x="0" y="149228"/>
                </a:lnTo>
                <a:cubicBezTo>
                  <a:pt x="0" y="66812"/>
                  <a:pt x="66812" y="0"/>
                  <a:pt x="149228" y="0"/>
                </a:cubicBezTo>
                <a:close/>
              </a:path>
            </a:pathLst>
          </a:custGeom>
          <a:solidFill>
            <a:srgbClr val="00389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" name="Round Same Side Corner Rectangle 37"/>
          <p:cNvSpPr/>
          <p:nvPr/>
        </p:nvSpPr>
        <p:spPr>
          <a:xfrm rot="10800000">
            <a:off x="394920" y="1413000"/>
            <a:ext cx="4194360" cy="3147840"/>
          </a:xfrm>
          <a:custGeom>
            <a:avLst/>
            <a:gdLst/>
            <a:ahLst/>
            <a:rect l="l" t="t" r="r" b="b"/>
            <a:pathLst>
              <a:path w="4194175" h="3148013">
                <a:moveTo>
                  <a:pt x="524679" y="0"/>
                </a:moveTo>
                <a:lnTo>
                  <a:pt x="3669496" y="0"/>
                </a:lnTo>
                <a:cubicBezTo>
                  <a:pt x="3959268" y="0"/>
                  <a:pt x="4194175" y="234907"/>
                  <a:pt x="4194175" y="524679"/>
                </a:cubicBezTo>
                <a:lnTo>
                  <a:pt x="4194175" y="3148013"/>
                </a:lnTo>
                <a:lnTo>
                  <a:pt x="4194175" y="3148013"/>
                </a:lnTo>
                <a:lnTo>
                  <a:pt x="0" y="3148013"/>
                </a:lnTo>
                <a:lnTo>
                  <a:pt x="0" y="3148013"/>
                </a:lnTo>
                <a:lnTo>
                  <a:pt x="0" y="524679"/>
                </a:lnTo>
                <a:cubicBezTo>
                  <a:pt x="0" y="234907"/>
                  <a:pt x="234907" y="0"/>
                  <a:pt x="524679" y="0"/>
                </a:cubicBezTo>
                <a:close/>
              </a:path>
            </a:pathLst>
          </a:custGeom>
          <a:solidFill>
            <a:srgbClr val="0038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pic>
        <p:nvPicPr>
          <p:cNvPr id="4" name="Picture 12" descr="R:\Depts\Communications\Marketing\Branding\Logo\SharedServices\HE &amp; LETBS\PNG\NHS-HE-&amp;-LETBs_all_white_inverse.PNG"/>
          <p:cNvPicPr/>
          <p:nvPr/>
        </p:nvPicPr>
        <p:blipFill>
          <a:blip r:embed="rId3"/>
          <a:stretch/>
        </p:blipFill>
        <p:spPr>
          <a:xfrm>
            <a:off x="3059280" y="674640"/>
            <a:ext cx="1384200" cy="574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1" descr="R:\Depts\Communications\Marketing\Branding\Logo\NHS\NHS-Constitution-logo.png"/>
          <p:cNvPicPr/>
          <p:nvPr/>
        </p:nvPicPr>
        <p:blipFill>
          <a:blip r:embed="rId4"/>
          <a:stretch/>
        </p:blipFill>
        <p:spPr>
          <a:xfrm>
            <a:off x="250920" y="6114960"/>
            <a:ext cx="622080" cy="622440"/>
          </a:xfrm>
          <a:prstGeom prst="rect">
            <a:avLst/>
          </a:prstGeom>
          <a:ln w="0">
            <a:noFill/>
          </a:ln>
        </p:spPr>
      </p:pic>
      <p:sp>
        <p:nvSpPr>
          <p:cNvPr id="6" name="TextBox 9"/>
          <p:cNvSpPr/>
          <p:nvPr/>
        </p:nvSpPr>
        <p:spPr>
          <a:xfrm>
            <a:off x="525600" y="674640"/>
            <a:ext cx="2160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b6d2ff"/>
                </a:solidFill>
                <a:latin typeface="Frutiger Neue LT Pro Regular"/>
                <a:ea typeface="ＭＳ Ｐゴシック"/>
              </a:rPr>
              <a:t>Appraisal and Revalidation</a:t>
            </a:r>
            <a:endParaRPr b="0" lang="en-US" sz="13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" name="Picture 12" descr="R:\Depts\Communications\Marketing\Branding\Logo\SharedServices\HE &amp; LETBS\PNG\NHS-HE-&amp;-LETBs_all_white_inverse.PNG"/>
          <p:cNvPicPr/>
          <p:nvPr/>
        </p:nvPicPr>
        <p:blipFill>
          <a:blip r:embed="rId3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47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3851280" y="6170760"/>
            <a:ext cx="2160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b6d2ff"/>
                </a:solidFill>
                <a:latin typeface="Frutiger Neue LT Pro Regular"/>
                <a:ea typeface="ＭＳ Ｐゴシック"/>
              </a:rPr>
              <a:t>Appraisal and Revalidation</a:t>
            </a:r>
            <a:endParaRPr b="0" lang="en-US" sz="13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R:\Depts\Communications\Marketing\Branding\Logo\SharedServices\HE &amp; LETBS\PNG\NHS-HE-&amp;-LETBs_all_white_inverse.PNG"/>
          <p:cNvPicPr/>
          <p:nvPr/>
        </p:nvPicPr>
        <p:blipFill>
          <a:blip r:embed="rId3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3851280" y="6170760"/>
            <a:ext cx="2160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b6d2ff"/>
                </a:solidFill>
                <a:latin typeface="Frutiger Neue LT Pro Regular"/>
                <a:ea typeface="ＭＳ Ｐゴシック"/>
              </a:rPr>
              <a:t>Appraisal and Revalidation</a:t>
            </a:r>
            <a:endParaRPr b="0" lang="en-US" sz="13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89" name="Round Same Side Corner Rectangle 7"/>
          <p:cNvSpPr/>
          <p:nvPr/>
        </p:nvSpPr>
        <p:spPr>
          <a:xfrm>
            <a:off x="395280" y="511200"/>
            <a:ext cx="4194360" cy="895320"/>
          </a:xfrm>
          <a:custGeom>
            <a:avLst/>
            <a:gdLst/>
            <a:ahLst/>
            <a:rect l="l" t="t" r="r" b="b"/>
            <a:pathLst>
              <a:path w="4194175" h="895350">
                <a:moveTo>
                  <a:pt x="149228" y="0"/>
                </a:moveTo>
                <a:lnTo>
                  <a:pt x="4044947" y="0"/>
                </a:lnTo>
                <a:cubicBezTo>
                  <a:pt x="4127363" y="0"/>
                  <a:pt x="4194175" y="66812"/>
                  <a:pt x="4194175" y="149228"/>
                </a:cubicBezTo>
                <a:lnTo>
                  <a:pt x="4194175" y="895350"/>
                </a:lnTo>
                <a:lnTo>
                  <a:pt x="4194175" y="895350"/>
                </a:lnTo>
                <a:lnTo>
                  <a:pt x="0" y="895350"/>
                </a:lnTo>
                <a:lnTo>
                  <a:pt x="0" y="895350"/>
                </a:lnTo>
                <a:lnTo>
                  <a:pt x="0" y="149228"/>
                </a:lnTo>
                <a:cubicBezTo>
                  <a:pt x="0" y="66812"/>
                  <a:pt x="66812" y="0"/>
                  <a:pt x="149228" y="0"/>
                </a:cubicBezTo>
                <a:close/>
              </a:path>
            </a:pathLst>
          </a:custGeom>
          <a:solidFill>
            <a:srgbClr val="00389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0" name="Round Same Side Corner Rectangle 8"/>
          <p:cNvSpPr/>
          <p:nvPr/>
        </p:nvSpPr>
        <p:spPr>
          <a:xfrm rot="10800000">
            <a:off x="394920" y="1413000"/>
            <a:ext cx="4194360" cy="3147840"/>
          </a:xfrm>
          <a:custGeom>
            <a:avLst/>
            <a:gdLst/>
            <a:ahLst/>
            <a:rect l="l" t="t" r="r" b="b"/>
            <a:pathLst>
              <a:path w="4194175" h="3148013">
                <a:moveTo>
                  <a:pt x="524679" y="0"/>
                </a:moveTo>
                <a:lnTo>
                  <a:pt x="3669496" y="0"/>
                </a:lnTo>
                <a:cubicBezTo>
                  <a:pt x="3959268" y="0"/>
                  <a:pt x="4194175" y="234907"/>
                  <a:pt x="4194175" y="524679"/>
                </a:cubicBezTo>
                <a:lnTo>
                  <a:pt x="4194175" y="3148013"/>
                </a:lnTo>
                <a:lnTo>
                  <a:pt x="4194175" y="3148013"/>
                </a:lnTo>
                <a:lnTo>
                  <a:pt x="0" y="3148013"/>
                </a:lnTo>
                <a:lnTo>
                  <a:pt x="0" y="3148013"/>
                </a:lnTo>
                <a:lnTo>
                  <a:pt x="0" y="524679"/>
                </a:lnTo>
                <a:cubicBezTo>
                  <a:pt x="0" y="234907"/>
                  <a:pt x="234907" y="0"/>
                  <a:pt x="524679" y="0"/>
                </a:cubicBezTo>
                <a:close/>
              </a:path>
            </a:pathLst>
          </a:custGeom>
          <a:solidFill>
            <a:srgbClr val="0038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pic>
        <p:nvPicPr>
          <p:cNvPr id="91" name="Picture 12" descr="R:\Depts\Communications\Marketing\Branding\Logo\SharedServices\HE &amp; LETBS\PNG\NHS-HE-&amp;-LETBs_all_white_inverse.PNG"/>
          <p:cNvPicPr/>
          <p:nvPr/>
        </p:nvPicPr>
        <p:blipFill>
          <a:blip r:embed="rId4"/>
          <a:stretch/>
        </p:blipFill>
        <p:spPr>
          <a:xfrm>
            <a:off x="3059280" y="692280"/>
            <a:ext cx="1384200" cy="57456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1"/>
          <p:cNvGrpSpPr/>
          <p:nvPr/>
        </p:nvGrpSpPr>
        <p:grpSpPr>
          <a:xfrm>
            <a:off x="539640" y="669960"/>
            <a:ext cx="992160" cy="248040"/>
            <a:chOff x="539640" y="669960"/>
            <a:chExt cx="992160" cy="248040"/>
          </a:xfrm>
        </p:grpSpPr>
        <p:sp>
          <p:nvSpPr>
            <p:cNvPr id="93" name="Rectangle 12"/>
            <p:cNvSpPr/>
            <p:nvPr/>
          </p:nvSpPr>
          <p:spPr>
            <a:xfrm>
              <a:off x="885960" y="779400"/>
              <a:ext cx="56304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 baseline="-25000">
                  <a:solidFill>
                    <a:srgbClr val="ffffff"/>
                  </a:solidFill>
                  <a:latin typeface="Frutiger Neue LT Pro Regular"/>
                  <a:ea typeface="Arial"/>
                </a:rPr>
                <a:t>working on behalf of </a:t>
              </a:r>
              <a:endParaRPr b="0" lang="en-US" sz="800" spc="-1" strike="noStrike">
                <a:solidFill>
                  <a:srgbClr val="003893"/>
                </a:solidFill>
                <a:latin typeface="Arial"/>
              </a:endParaRPr>
            </a:p>
          </p:txBody>
        </p:sp>
        <p:pic>
          <p:nvPicPr>
            <p:cNvPr id="94" name="Picture 17" descr="R:\Depts\Communications\Marketing\Templates\Logo\Possible logos\SharedServices-logo-WHITE-INVERSE.png"/>
            <p:cNvPicPr/>
            <p:nvPr/>
          </p:nvPicPr>
          <p:blipFill>
            <a:blip r:embed="rId5"/>
            <a:stretch/>
          </p:blipFill>
          <p:spPr>
            <a:xfrm>
              <a:off x="539640" y="669960"/>
              <a:ext cx="992160" cy="13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3889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2f2f2"/>
                </a:solidFill>
                <a:latin typeface="Arial"/>
              </a:rPr>
              <a:t>The role of Challenge in Appraisal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539640" y="3286080"/>
            <a:ext cx="38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rcRect l="37820" t="49158" r="21139" b="17726"/>
          <a:stretch/>
        </p:blipFill>
        <p:spPr>
          <a:xfrm>
            <a:off x="395280" y="44280"/>
            <a:ext cx="8518680" cy="3864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rcRect l="38019" t="44906" r="21330" b="39109"/>
          <a:stretch/>
        </p:blipFill>
        <p:spPr>
          <a:xfrm>
            <a:off x="395280" y="3860640"/>
            <a:ext cx="84675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rcRect l="38058" t="64749" r="21291" b="19557"/>
          <a:stretch/>
        </p:blipFill>
        <p:spPr>
          <a:xfrm>
            <a:off x="250920" y="404640"/>
            <a:ext cx="862632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How to record/demonstrate the use of challenge in appraisals?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Learning log of reflections on appraisals noting challenges mad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Request specific feedback from appraisees on the amount of challenge in the appraisa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Feedback and Reflection forms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               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d4d4d"/>
                </a:solidFill>
                <a:latin typeface="Arial"/>
              </a:rPr>
              <a:t>Thank you</a:t>
            </a:r>
            <a:endParaRPr b="1" lang="en-US" sz="4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       </a:t>
            </a:r>
            <a:br>
              <a:rPr sz="2800"/>
            </a:b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Ice breaker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Choose a card which illustrates one of your traits as an appraiser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Choose a second card which illustrates a trait you would like more of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8120" y="260280"/>
            <a:ext cx="827712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What might you need to challenge an appraisee about?</a:t>
            </a:r>
            <a:br>
              <a:rPr sz="2800"/>
            </a:b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        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8120" y="259920"/>
            <a:ext cx="8277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What might you need to challenge an appraisee about?</a:t>
            </a:r>
            <a:br>
              <a:rPr sz="2800"/>
            </a:b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4920" y="1125000"/>
            <a:ext cx="831996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Cancellations and punctuality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Late submission of supporting information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Missing supporting information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Incomplete documentation e.g. audit present but scanty or no standard or criteria documented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Lack of reflection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Last year’s Personal Development Plan all carried forward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Very general non specific entries in Personal Development Plan e.g. do a diabetes updat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Probity issues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Non-engagement or antipathy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What strategies have you used for challenging appraisees?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Strategies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38120" y="1125360"/>
            <a:ext cx="82771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Contract/ ask for permission to challenge at the beginning  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Challenge self-limiting beliefs (beliefs we all have which hold us back from success)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Ask: “I wonder if you are being too tough on yourself.” or “If you were being tougher on yourself what would you say/do?”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Ask:  “Would you mind if I make an observation...?”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Sign post: “This is a difficult question to ask...”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Give examples of what others do, resources or alternative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Use curiosity: “How do you feel about the way you have written this?”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I notice that...and I’m wondering...”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Explain the impact: “When you kept cancelling the meeting, it made me feel...”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7712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Challenging non-engagemen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38120" y="1412640"/>
            <a:ext cx="827712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Direct challenge may evoke a defensive respons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Reframing/Positive psychology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Focus on the appraisee’s positive work and shape the discussion around the individual’s aspirations and achievement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Reverse psychology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Agree that it is the appraisee’s prerogative/choice not to engage if they don’t want to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But be clear that in this case they may put their revalidation at risk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Allow the critique that revalidation might not prevent another Shipman but encourage the appraisee to consider how we can use appraisal to improve the care of patient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Role Play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In pairs choose one challenging appraisal situation and role play an approach you haven’t tried befor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3"/>
          <p:cNvGrpSpPr/>
          <p:nvPr/>
        </p:nvGrpSpPr>
        <p:grpSpPr>
          <a:xfrm>
            <a:off x="216000" y="44280"/>
            <a:ext cx="8574120" cy="5832720"/>
            <a:chOff x="216000" y="44280"/>
            <a:chExt cx="8574120" cy="5832720"/>
          </a:xfrm>
        </p:grpSpPr>
        <p:pic>
          <p:nvPicPr>
            <p:cNvPr id="156" name="Picture 2" descr=""/>
            <p:cNvPicPr/>
            <p:nvPr/>
          </p:nvPicPr>
          <p:blipFill>
            <a:blip r:embed="rId1"/>
            <a:srcRect l="36246" t="34080" r="20585" b="35340"/>
            <a:stretch/>
          </p:blipFill>
          <p:spPr>
            <a:xfrm>
              <a:off x="216000" y="44280"/>
              <a:ext cx="8574120" cy="343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2" descr=""/>
            <p:cNvPicPr/>
            <p:nvPr/>
          </p:nvPicPr>
          <p:blipFill>
            <a:blip r:embed="rId2"/>
            <a:srcRect l="37355" t="23366" r="21139" b="54262"/>
            <a:stretch/>
          </p:blipFill>
          <p:spPr>
            <a:xfrm>
              <a:off x="426240" y="3362760"/>
              <a:ext cx="8253360" cy="251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20:23:10Z</dcterms:created>
  <dc:creator>linda.miller</dc:creator>
  <dc:description/>
  <dc:language>en-US</dc:language>
  <cp:lastModifiedBy>WRIGHT, Jaime</cp:lastModifiedBy>
  <dcterms:modified xsi:type="dcterms:W3CDTF">2014-02-26T10:23:14Z</dcterms:modified>
  <cp:revision>58</cp:revision>
  <dc:subject/>
  <dc:title>MAIN TITLE OF PRESENTATION GOES HERE</dc:title>
</cp:coreProperties>
</file>