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33120" y="752040"/>
            <a:ext cx="5016600" cy="37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0" y="95295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898800" y="95295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2826-C10F-46A0-9868-B85BF9E6E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nd rules: confidentiality of appraisee details, mutual respe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workshop is designed to last about 60 minu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85F-F8DB-4A45-AC5A-878A7CD0BC21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ick a postcard that relates to you as an appraiser.  Talk in pairs ( 2 minutes) about how this relates to the concept of challeng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F3E-2F33-4C18-9DFC-8A19690EF880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k participants to discuss in pairs or groups of three for 5-10 minu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4D8-39E0-4DA1-879E-1DB167A5C8AA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1C3-19DF-4EE1-91E2-81F7C4069AD9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1C8-C44B-41FC-B768-05D44F5DBD6A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workshop covers competency areas: 1.1, 1.2,1.3,1.4, 2.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719-AEF2-42A6-9689-C207391F178F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, 3.4, 3.5,  4.1,4.2, 4.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A45-82B9-4D23-8F6A-C0E5881E33C5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k participants to suggest ideas in large group (5 minu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8B0-C6BC-490B-BBAB-81AE0EF75EAA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30E-49DE-46DF-8BF8-9834BC76C3F3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893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4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561960" y="65232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780000" y="6235560"/>
            <a:ext cx="216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780000" y="6235560"/>
            <a:ext cx="216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9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0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9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93" name="Rectangle 12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3893"/>
                </a:solidFill>
                <a:latin typeface="Arial"/>
              </a:endParaRPr>
            </a:p>
          </p:txBody>
        </p:sp>
        <p:pic>
          <p:nvPicPr>
            <p:cNvPr id="94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0280" y="1931760"/>
            <a:ext cx="381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allenging appraisals</a:t>
            </a:r>
            <a:endParaRPr b="1" lang="en-US" sz="36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39640" y="3068640"/>
            <a:ext cx="38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Feedback and Reflection form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3333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ce breaker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challenges have you come across in appraisals? 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What challenges have you come across in appraisals? </a:t>
            </a: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8120" y="1125360"/>
            <a:ext cx="8277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Cynical/non engag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Emotional/tearfu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Doesn’t understand what reflection mea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Doesn’t stop talking or is very retic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Needed to reschedule e.g. inadequate pre-appraisal inform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Needed to stop the appraisal e.g. performance concer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Appraisee raised issue of concern about workplace e.g. poor patient     care, bullying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Not completed last year’s PDP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3333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Goldfish bowl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8120" y="907920"/>
            <a:ext cx="82771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Small group (2-4 people) in centre of circle of participan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Discuss how you have managed challenges in appraisal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(10 minutes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Large group in outer circl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Listen to the small group then discuss your response while the small group listens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	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(10 minutes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What new ideas have you heard?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What do you agree or disagree with?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246240" y="1440"/>
            <a:ext cx="8789760" cy="5948640"/>
            <a:chOff x="246240" y="1440"/>
            <a:chExt cx="8789760" cy="5948640"/>
          </a:xfrm>
        </p:grpSpPr>
        <p:pic>
          <p:nvPicPr>
            <p:cNvPr id="151" name="Picture 2" descr=""/>
            <p:cNvPicPr/>
            <p:nvPr/>
          </p:nvPicPr>
          <p:blipFill>
            <a:blip r:embed="rId1"/>
            <a:srcRect l="36246" t="34080" r="20585" b="35340"/>
            <a:stretch/>
          </p:blipFill>
          <p:spPr>
            <a:xfrm>
              <a:off x="246240" y="1440"/>
              <a:ext cx="8789760" cy="35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"/>
            <p:cNvPicPr/>
            <p:nvPr/>
          </p:nvPicPr>
          <p:blipFill>
            <a:blip r:embed="rId2"/>
            <a:srcRect l="37355" t="23366" r="21139" b="54262"/>
            <a:stretch/>
          </p:blipFill>
          <p:spPr>
            <a:xfrm>
              <a:off x="461880" y="3385800"/>
              <a:ext cx="8460720" cy="256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7820" t="49158" r="21139" b="17726"/>
          <a:stretch/>
        </p:blipFill>
        <p:spPr>
          <a:xfrm>
            <a:off x="395280" y="44280"/>
            <a:ext cx="8518680" cy="386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rcRect l="38019" t="44906" r="21330" b="39109"/>
          <a:stretch/>
        </p:blipFill>
        <p:spPr>
          <a:xfrm>
            <a:off x="395280" y="3860640"/>
            <a:ext cx="8467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893"/>
                </a:solidFill>
                <a:latin typeface="Arial"/>
              </a:rPr>
              <a:t>How could you evidence an improvement in your ability to manage challenging appraisals in the next year?</a:t>
            </a: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26028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893"/>
                </a:solidFill>
                <a:latin typeface="Arial"/>
              </a:rPr>
              <a:t>How could you evidence an improvement in your ability to manage challenging appraisals in the next year?</a:t>
            </a: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8360" y="126828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Keep a reflective log e.g. self awareness of own preconceptions</a:t>
            </a: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Seek immediate appraisee feedback</a:t>
            </a: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Write up and reflect on an appraisal significant event and demonstrate a change</a:t>
            </a: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Contribute to a future appraiser support group on this topic</a:t>
            </a: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23:10Z</dcterms:created>
  <dc:creator>linda.miller</dc:creator>
  <dc:description/>
  <dc:language>en-US</dc:language>
  <cp:lastModifiedBy>WRIGHT, Jaime</cp:lastModifiedBy>
  <dcterms:modified xsi:type="dcterms:W3CDTF">2014-02-26T10:31:43Z</dcterms:modified>
  <cp:revision>37</cp:revision>
  <dc:subject/>
  <dc:title>MAIN TITLE OF PRESENTATION GOES HERE</dc:title>
</cp:coreProperties>
</file>